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273-35E1-4FCD-A256-B0710B96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6A2-D50B-41DB-A6D5-8E48C567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D34-4271-472D-A93E-631780AE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0DA-661B-422E-A0CD-80FB9F49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EF9-4091-400E-B927-D83E8AB0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99B-0BB9-4166-B431-8EF85930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2A4D-9371-414F-B5BB-DD284660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E5E1-8318-42CC-BEC9-5574D105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824-8E65-4979-AA78-ECEA1BE8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4ACB-DC08-479A-A519-81386C62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9A3-C3E3-45C1-9BA2-4C50B794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DC01-E06C-445E-AC8B-8FD6AF9A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0F5F-0E15-44EF-9807-63DB5972B300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18D4-6392-4D2E-9532-137C5B0B4BBB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699720" y="38185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8081f"/>
                </a:solidFill>
                <a:latin typeface="黑体"/>
                <a:ea typeface="黑体"/>
              </a:rPr>
              <a:t>小结与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03280" y="2637000"/>
            <a:ext cx="648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八章 运动和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220760" y="855720"/>
            <a:ext cx="4341960" cy="4845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Times New Roman"/>
                <a:ea typeface="黑体"/>
              </a:rPr>
              <a:t>  </a:t>
            </a:r>
            <a:r>
              <a:rPr b="0" lang="en-US" sz="2800" spc="-1" strike="noStrike">
                <a:solidFill>
                  <a:srgbClr val="f8081f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8081f"/>
                </a:solidFill>
                <a:latin typeface="Times New Roman"/>
                <a:ea typeface="黑体"/>
              </a:rPr>
              <a:t>．增大有益摩擦的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2"/>
          <p:cNvGrpSpPr/>
          <p:nvPr/>
        </p:nvGrpSpPr>
        <p:grpSpPr>
          <a:xfrm>
            <a:off x="1847160" y="1484280"/>
            <a:ext cx="2597760" cy="1101600"/>
            <a:chOff x="1847160" y="1484280"/>
            <a:chExt cx="2597760" cy="1101600"/>
          </a:xfrm>
        </p:grpSpPr>
        <p:sp>
          <p:nvSpPr>
            <p:cNvPr id="198" name="Text Box 5"/>
            <p:cNvSpPr/>
            <p:nvPr/>
          </p:nvSpPr>
          <p:spPr>
            <a:xfrm>
              <a:off x="3254040" y="2065320"/>
              <a:ext cx="85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081f"/>
                  </a:solidFill>
                  <a:latin typeface="黑体"/>
                  <a:ea typeface="黑体"/>
                </a:rPr>
                <a:t>②</a:t>
              </a:r>
              <a:r>
                <a:rPr b="0" lang="zh-CN" sz="2800" spc="-1" strike="noStrike">
                  <a:solidFill>
                    <a:srgbClr val="f8081f"/>
                  </a:solidFill>
                  <a:latin typeface="黑体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f8081f"/>
                  </a:solidFill>
                  <a:latin typeface="Times New Roman"/>
                  <a:ea typeface="黑体"/>
                </a:rPr>
                <a:t>增加接触表面的粗糙程度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6"/>
            <p:cNvSpPr/>
            <p:nvPr/>
          </p:nvSpPr>
          <p:spPr>
            <a:xfrm>
              <a:off x="1847160" y="1484280"/>
              <a:ext cx="259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081f"/>
                  </a:solidFill>
                  <a:latin typeface="Times New Roman"/>
                  <a:ea typeface="黑体"/>
                </a:rPr>
                <a:t>①</a:t>
              </a:r>
              <a:r>
                <a:rPr b="0" lang="zh-CN" sz="2800" spc="-1" strike="noStrike">
                  <a:solidFill>
                    <a:srgbClr val="f8081f"/>
                  </a:solidFill>
                  <a:latin typeface="黑体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f8081f"/>
                  </a:solidFill>
                  <a:latin typeface="Times New Roman"/>
                  <a:ea typeface="黑体"/>
                </a:rPr>
                <a:t>增大物体间的压力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9"/>
          <p:cNvSpPr/>
          <p:nvPr/>
        </p:nvSpPr>
        <p:spPr>
          <a:xfrm>
            <a:off x="1225440" y="2529000"/>
            <a:ext cx="729144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列举相关的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Arial"/>
                <a:ea typeface="黑体"/>
              </a:rPr>
              <a:t>①</a:t>
            </a:r>
            <a:r>
              <a:rPr b="0" lang="zh-CN" sz="2800" spc="-1" strike="noStrike">
                <a:solidFill>
                  <a:srgbClr val="f8081f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8081f"/>
                </a:solidFill>
                <a:latin typeface="Arial"/>
                <a:ea typeface="黑体"/>
              </a:rPr>
              <a:t>自行车用越大力刹车，就停得越快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Arial"/>
                <a:ea typeface="黑体"/>
              </a:rPr>
              <a:t>②</a:t>
            </a:r>
            <a:r>
              <a:rPr b="0" lang="zh-CN" sz="2800" spc="-1" strike="noStrike">
                <a:solidFill>
                  <a:srgbClr val="f8081f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8081f"/>
                </a:solidFill>
                <a:latin typeface="Arial"/>
                <a:ea typeface="黑体"/>
              </a:rPr>
              <a:t>拔河时用力握绳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③</a:t>
            </a:r>
            <a:r>
              <a:rPr b="0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冬天在结冰的路面上撒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④</a:t>
            </a:r>
            <a:r>
              <a:rPr b="0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冬天路面打滑，在汽车轮上缠铁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⑤</a:t>
            </a:r>
            <a:r>
              <a:rPr b="0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鞋底或轮胎有凹凸不平的花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⑥</a:t>
            </a:r>
            <a:r>
              <a:rPr b="0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上单杠，手上抹镁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1899000" y="879480"/>
            <a:ext cx="2364480" cy="5205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081f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f8081f"/>
                </a:solidFill>
                <a:latin typeface="Arial"/>
                <a:ea typeface="黑体"/>
              </a:rPr>
              <a:t>．减小摩擦的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053440" y="1449360"/>
            <a:ext cx="3024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081f"/>
                </a:solidFill>
                <a:latin typeface="黑体"/>
                <a:ea typeface="黑体"/>
              </a:rPr>
              <a:t>① </a:t>
            </a:r>
            <a:r>
              <a:rPr b="0" lang="zh-CN" sz="2800" spc="-1" strike="noStrike">
                <a:solidFill>
                  <a:srgbClr val="f8081f"/>
                </a:solidFill>
                <a:latin typeface="黑体"/>
                <a:ea typeface="黑体"/>
              </a:rPr>
              <a:t>减小压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081f"/>
                </a:solidFill>
                <a:latin typeface="黑体"/>
                <a:ea typeface="黑体"/>
              </a:rPr>
              <a:t>② </a:t>
            </a:r>
            <a:r>
              <a:rPr b="0" lang="zh-CN" sz="2800" spc="-1" strike="noStrike">
                <a:solidFill>
                  <a:srgbClr val="f8081f"/>
                </a:solidFill>
                <a:latin typeface="黑体"/>
                <a:ea typeface="黑体"/>
              </a:rPr>
              <a:t>减小接触面的粗糙程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081f"/>
                </a:solidFill>
                <a:latin typeface="黑体"/>
                <a:ea typeface="黑体"/>
              </a:rPr>
              <a:t>③ </a:t>
            </a:r>
            <a:r>
              <a:rPr b="0" lang="zh-CN" sz="2800" spc="-1" strike="noStrike">
                <a:solidFill>
                  <a:srgbClr val="f8081f"/>
                </a:solidFill>
                <a:latin typeface="黑体"/>
                <a:ea typeface="黑体"/>
              </a:rPr>
              <a:t>变滑动为滚动；</a:t>
            </a:r>
            <a:r>
              <a:rPr b="0" lang="zh-CN" sz="2800" spc="-1" strike="noStrike">
                <a:solidFill>
                  <a:srgbClr val="f8081f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081f"/>
                </a:solidFill>
                <a:latin typeface="黑体"/>
                <a:ea typeface="黑体"/>
              </a:rPr>
              <a:t>④ </a:t>
            </a:r>
            <a:r>
              <a:rPr b="0" lang="zh-CN" sz="2800" spc="-1" strike="noStrike">
                <a:solidFill>
                  <a:srgbClr val="f8081f"/>
                </a:solidFill>
                <a:latin typeface="黑体"/>
                <a:ea typeface="黑体"/>
              </a:rPr>
              <a:t>分离摩擦面。</a:t>
            </a:r>
            <a:r>
              <a:rPr b="0" lang="zh-CN" sz="2800" spc="-1" strike="noStrike">
                <a:solidFill>
                  <a:srgbClr val="f8081f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522360" y="3610080"/>
            <a:ext cx="643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列举相关的事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黑体"/>
                <a:ea typeface="黑体"/>
              </a:rPr>
              <a:t>　　① </a:t>
            </a:r>
            <a:r>
              <a:rPr b="0" lang="zh-CN" sz="2800" spc="-1" strike="noStrike">
                <a:solidFill>
                  <a:srgbClr val="f8081f"/>
                </a:solidFill>
                <a:latin typeface="Arial"/>
                <a:ea typeface="黑体"/>
              </a:rPr>
              <a:t>手握单杠不能太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　　②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滑雪板底面做得很光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③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机器转动的部分加滚动轴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④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润滑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⑤ 磁悬浮列车靠强磁场把列车托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2"/>
          <p:cNvSpPr/>
          <p:nvPr/>
        </p:nvSpPr>
        <p:spPr>
          <a:xfrm>
            <a:off x="468360" y="1779480"/>
            <a:ext cx="8145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下面的现象中，不是由于惯性原因的是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放在教室里的课桌，没人搬动总是在原处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运动员跑到终点时不能立即停下来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站在行驶的公共汽车上的人，若汽车紧急刹车，人就要        向前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自行车从坡顶沿斜坡向下运动，速度不断增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6877080" y="1913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0"/>
          <p:cNvGrpSpPr/>
          <p:nvPr/>
        </p:nvGrpSpPr>
        <p:grpSpPr>
          <a:xfrm>
            <a:off x="611280" y="851040"/>
            <a:ext cx="2055600" cy="633240"/>
            <a:chOff x="611280" y="851040"/>
            <a:chExt cx="2055600" cy="633240"/>
          </a:xfrm>
        </p:grpSpPr>
        <p:grpSp>
          <p:nvGrpSpPr>
            <p:cNvPr id="207" name="Group 11"/>
            <p:cNvGrpSpPr/>
            <p:nvPr/>
          </p:nvGrpSpPr>
          <p:grpSpPr>
            <a:xfrm>
              <a:off x="611280" y="855720"/>
              <a:ext cx="2055600" cy="596520"/>
              <a:chOff x="611280" y="855720"/>
              <a:chExt cx="2055600" cy="596520"/>
            </a:xfrm>
          </p:grpSpPr>
          <p:sp>
            <p:nvSpPr>
              <p:cNvPr id="208" name="MH_Other_2"/>
              <p:cNvSpPr/>
              <p:nvPr/>
            </p:nvSpPr>
            <p:spPr>
              <a:xfrm>
                <a:off x="729360" y="985680"/>
                <a:ext cx="1835280" cy="38088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" name="MH_Other_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855720"/>
                <a:ext cx="2055600" cy="59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MH_Other_9"/>
              <p:cNvSpPr/>
              <p:nvPr/>
            </p:nvSpPr>
            <p:spPr>
              <a:xfrm>
                <a:off x="832320" y="1064160"/>
                <a:ext cx="221400" cy="21528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MH_Other_10"/>
              <p:cNvSpPr/>
              <p:nvPr/>
            </p:nvSpPr>
            <p:spPr>
              <a:xfrm>
                <a:off x="882720" y="111168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MH_SubTitle_4"/>
            <p:cNvSpPr/>
            <p:nvPr/>
          </p:nvSpPr>
          <p:spPr>
            <a:xfrm>
              <a:off x="1260360" y="851040"/>
              <a:ext cx="12978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随堂训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9"/>
          <p:cNvSpPr/>
          <p:nvPr/>
        </p:nvSpPr>
        <p:spPr>
          <a:xfrm>
            <a:off x="826920" y="1628640"/>
            <a:ext cx="756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汽车在水平公路上匀速直线行驶，下列各对力中是平衡力的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汽车受到的牵引力和重力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汽车的重力和车对路面的压力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汽车受到的牵引力和路面对车的阻力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汽车对路面的压力和路面对车的支持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2843280" y="22766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"/>
          <p:cNvSpPr/>
          <p:nvPr/>
        </p:nvSpPr>
        <p:spPr>
          <a:xfrm>
            <a:off x="900000" y="149076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一个物体受到两个力的作用，且这两个力的三要素完全相同，则下列说法中正确的是（ 　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这两个力一定是一对平衡力　　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这两个力可能是一对平衡力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这两个力一定不是一对平衡力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以上说法都不正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5870880" y="212400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  </a:t>
            </a:r>
            <a:r>
              <a:rPr b="1" lang="en-US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468360" y="1639800"/>
            <a:ext cx="8480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研究影响滑动摩擦力大小因素问题时，小红设计的实验如图所示，弹簧测力计一端固定，另一端钩住长方形木块，木块下面是一长木板，实验时拉动长木板，然后读出弹簧测力计的示数，即可测出木块和木板之间的摩擦力。小明看了小红的实验后，认为小红设计的实验优于自己设计的实验。对此你能说出其中的原因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539640" y="5229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木板不必做匀速直线运动、弹簧测力计保持静止，便于读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1"/>
          <p:cNvGrpSpPr/>
          <p:nvPr/>
        </p:nvGrpSpPr>
        <p:grpSpPr>
          <a:xfrm>
            <a:off x="2484360" y="3500280"/>
            <a:ext cx="4697640" cy="1479600"/>
            <a:chOff x="2484360" y="3500280"/>
            <a:chExt cx="4697640" cy="1479600"/>
          </a:xfrm>
        </p:grpSpPr>
        <p:pic>
          <p:nvPicPr>
            <p:cNvPr id="220" name="Picture 8" descr=""/>
            <p:cNvPicPr/>
            <p:nvPr/>
          </p:nvPicPr>
          <p:blipFill>
            <a:blip r:embed="rId1"/>
            <a:stretch/>
          </p:blipFill>
          <p:spPr>
            <a:xfrm>
              <a:off x="2484360" y="3500280"/>
              <a:ext cx="4410000" cy="14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10"/>
            <p:cNvSpPr/>
            <p:nvPr/>
          </p:nvSpPr>
          <p:spPr>
            <a:xfrm>
              <a:off x="6624720" y="4303440"/>
              <a:ext cx="45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9"/>
            <p:cNvSpPr/>
            <p:nvPr/>
          </p:nvSpPr>
          <p:spPr>
            <a:xfrm>
              <a:off x="6551640" y="4746240"/>
              <a:ext cx="630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4"/>
          <p:cNvSpPr/>
          <p:nvPr/>
        </p:nvSpPr>
        <p:spPr>
          <a:xfrm>
            <a:off x="468360" y="1557360"/>
            <a:ext cx="755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222120"/>
                <a:tab algn="l" pos="1428840"/>
                <a:tab algn="l" pos="2635200"/>
                <a:tab algn="l" pos="3841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公共汽车在平直的公路上匀速行驶，站在车里的人在水平方向上（　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2120"/>
                <a:tab algn="l" pos="1428840"/>
                <a:tab algn="l" pos="2635200"/>
                <a:tab algn="l" pos="3841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受到向前的摩擦力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2120"/>
                <a:tab algn="l" pos="1428840"/>
                <a:tab algn="l" pos="2635200"/>
                <a:tab algn="l" pos="3841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受到向后的摩擦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2120"/>
                <a:tab algn="l" pos="1428840"/>
                <a:tab algn="l" pos="2635200"/>
                <a:tab algn="l" pos="3841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受到汽车对它的牵引力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2120"/>
                <a:tab algn="l" pos="1428840"/>
                <a:tab algn="l" pos="2635200"/>
                <a:tab algn="l" pos="3841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不受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2557440" y="21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6"/>
          <p:cNvSpPr/>
          <p:nvPr/>
        </p:nvSpPr>
        <p:spPr>
          <a:xfrm>
            <a:off x="214200" y="958680"/>
            <a:ext cx="8723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研究滑动摩擦力的大小与哪些因素有关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实验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用弹簧测力计拉着木块做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运动，这时木板对木块的摩擦力才等于弹簧测力计的示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下表是某同学实验时，记录的数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比较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次实验时，可以得出的结论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比较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次实验时，可以得出的结论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50920" y="3160800"/>
          <a:ext cx="8596080" cy="1859040"/>
        </p:xfrm>
        <a:graphic>
          <a:graphicData uri="http://schemas.openxmlformats.org/drawingml/2006/table">
            <a:tbl>
              <a:tblPr/>
              <a:tblGrid>
                <a:gridCol w="1547280"/>
                <a:gridCol w="2870280"/>
                <a:gridCol w="1944720"/>
                <a:gridCol w="2233800"/>
              </a:tblGrid>
              <a:tr h="48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实验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接触面的材料性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压力 </a:t>
                      </a: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/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摩擦力 </a:t>
                      </a: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木块与木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木块与木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0.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木块与棉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Text Box 81"/>
          <p:cNvSpPr/>
          <p:nvPr/>
        </p:nvSpPr>
        <p:spPr>
          <a:xfrm>
            <a:off x="4562640" y="148752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081f"/>
                </a:solidFill>
                <a:latin typeface="Calibri"/>
                <a:ea typeface="楷体"/>
              </a:rPr>
              <a:t>匀速直线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0"/>
          <p:cNvGrpSpPr/>
          <p:nvPr/>
        </p:nvGrpSpPr>
        <p:grpSpPr>
          <a:xfrm>
            <a:off x="1015920" y="3959280"/>
            <a:ext cx="7110360" cy="1216080"/>
            <a:chOff x="1015920" y="3959280"/>
            <a:chExt cx="7110360" cy="1216080"/>
          </a:xfrm>
        </p:grpSpPr>
        <p:sp>
          <p:nvSpPr>
            <p:cNvPr id="229" name="AutoShape 38"/>
            <p:cNvSpPr/>
            <p:nvPr/>
          </p:nvSpPr>
          <p:spPr>
            <a:xfrm>
              <a:off x="1015920" y="3959280"/>
              <a:ext cx="7110360" cy="1216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454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83"/>
            <p:cNvSpPr/>
            <p:nvPr/>
          </p:nvSpPr>
          <p:spPr>
            <a:xfrm>
              <a:off x="1285920" y="4140360"/>
              <a:ext cx="670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．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在压力不变时，滑动摩擦力的大小与接触面的粗糙程度有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43"/>
          <p:cNvGrpSpPr/>
          <p:nvPr/>
        </p:nvGrpSpPr>
        <p:grpSpPr>
          <a:xfrm>
            <a:off x="1015920" y="1830240"/>
            <a:ext cx="7110000" cy="1171440"/>
            <a:chOff x="1015920" y="1830240"/>
            <a:chExt cx="7110000" cy="1171440"/>
          </a:xfrm>
        </p:grpSpPr>
        <p:sp>
          <p:nvSpPr>
            <p:cNvPr id="232" name="AutoShape 41"/>
            <p:cNvSpPr/>
            <p:nvPr/>
          </p:nvSpPr>
          <p:spPr>
            <a:xfrm>
              <a:off x="1015920" y="1830240"/>
              <a:ext cx="7110000" cy="1171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4454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82"/>
            <p:cNvSpPr/>
            <p:nvPr/>
          </p:nvSpPr>
          <p:spPr>
            <a:xfrm>
              <a:off x="1197360" y="1966680"/>
              <a:ext cx="692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Franklin Gothic Medium"/>
                  <a:ea typeface="黑体"/>
                </a:rPr>
                <a:t>．</a:t>
              </a:r>
              <a:r>
                <a:rPr b="0" lang="zh-CN" sz="2800" spc="-1" strike="noStrike">
                  <a:solidFill>
                    <a:srgbClr val="ff0000"/>
                  </a:solidFill>
                  <a:latin typeface="Franklin Gothic Medium"/>
                  <a:ea typeface="黑体"/>
                </a:rPr>
                <a:t>在接触面的粗糙程度相同时，滑动摩擦力的大小与压力的大小有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3"/>
          <p:cNvSpPr/>
          <p:nvPr/>
        </p:nvSpPr>
        <p:spPr>
          <a:xfrm>
            <a:off x="611280" y="1479240"/>
            <a:ext cx="40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一、力和运动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70"/>
          <p:cNvGrpSpPr/>
          <p:nvPr/>
        </p:nvGrpSpPr>
        <p:grpSpPr>
          <a:xfrm>
            <a:off x="2638440" y="3813120"/>
            <a:ext cx="1754280" cy="988920"/>
            <a:chOff x="2638440" y="3813120"/>
            <a:chExt cx="1754280" cy="988920"/>
          </a:xfrm>
        </p:grpSpPr>
        <p:sp>
          <p:nvSpPr>
            <p:cNvPr id="45" name="Line 15"/>
            <p:cNvSpPr/>
            <p:nvPr/>
          </p:nvSpPr>
          <p:spPr>
            <a:xfrm>
              <a:off x="2638440" y="3813120"/>
              <a:ext cx="1709640" cy="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16"/>
            <p:cNvSpPr/>
            <p:nvPr/>
          </p:nvSpPr>
          <p:spPr>
            <a:xfrm>
              <a:off x="2638440" y="3813120"/>
              <a:ext cx="1754280" cy="98892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69"/>
          <p:cNvGrpSpPr/>
          <p:nvPr/>
        </p:nvGrpSpPr>
        <p:grpSpPr>
          <a:xfrm>
            <a:off x="2817720" y="3902040"/>
            <a:ext cx="1575000" cy="946080"/>
            <a:chOff x="2817720" y="3902040"/>
            <a:chExt cx="1575000" cy="946080"/>
          </a:xfrm>
        </p:grpSpPr>
        <p:sp>
          <p:nvSpPr>
            <p:cNvPr id="48" name="Line 17"/>
            <p:cNvSpPr/>
            <p:nvPr/>
          </p:nvSpPr>
          <p:spPr>
            <a:xfrm flipV="1">
              <a:off x="2817720" y="3902040"/>
              <a:ext cx="1575000" cy="94608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8"/>
            <p:cNvSpPr/>
            <p:nvPr/>
          </p:nvSpPr>
          <p:spPr>
            <a:xfrm>
              <a:off x="2817720" y="4848120"/>
              <a:ext cx="1575000" cy="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Line 19"/>
          <p:cNvSpPr/>
          <p:nvPr/>
        </p:nvSpPr>
        <p:spPr>
          <a:xfrm>
            <a:off x="2997360" y="5837400"/>
            <a:ext cx="1395360" cy="0"/>
          </a:xfrm>
          <a:prstGeom prst="line">
            <a:avLst/>
          </a:prstGeom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68"/>
          <p:cNvGrpSpPr/>
          <p:nvPr/>
        </p:nvGrpSpPr>
        <p:grpSpPr>
          <a:xfrm>
            <a:off x="2682720" y="3722760"/>
            <a:ext cx="1756080" cy="988920"/>
            <a:chOff x="2682720" y="3722760"/>
            <a:chExt cx="1756080" cy="988920"/>
          </a:xfrm>
        </p:grpSpPr>
        <p:sp>
          <p:nvSpPr>
            <p:cNvPr id="52" name="Line 20"/>
            <p:cNvSpPr/>
            <p:nvPr/>
          </p:nvSpPr>
          <p:spPr>
            <a:xfrm flipH="1">
              <a:off x="2682720" y="3722760"/>
              <a:ext cx="17560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1"/>
            <p:cNvSpPr/>
            <p:nvPr/>
          </p:nvSpPr>
          <p:spPr>
            <a:xfrm flipH="1">
              <a:off x="2773440" y="3722760"/>
              <a:ext cx="1665360" cy="98892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67"/>
          <p:cNvGrpSpPr/>
          <p:nvPr/>
        </p:nvGrpSpPr>
        <p:grpSpPr>
          <a:xfrm>
            <a:off x="2638080" y="3901680"/>
            <a:ext cx="1800360" cy="1035360"/>
            <a:chOff x="2638080" y="3901680"/>
            <a:chExt cx="1800360" cy="1035360"/>
          </a:xfrm>
        </p:grpSpPr>
        <p:sp>
          <p:nvSpPr>
            <p:cNvPr id="55" name="Line 22"/>
            <p:cNvSpPr/>
            <p:nvPr/>
          </p:nvSpPr>
          <p:spPr>
            <a:xfrm flipH="1" flipV="1">
              <a:off x="2638080" y="3901680"/>
              <a:ext cx="1800360" cy="103500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3"/>
            <p:cNvSpPr/>
            <p:nvPr/>
          </p:nvSpPr>
          <p:spPr>
            <a:xfrm flipH="1">
              <a:off x="2817360" y="4937040"/>
              <a:ext cx="16210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Line 24"/>
          <p:cNvSpPr/>
          <p:nvPr/>
        </p:nvSpPr>
        <p:spPr>
          <a:xfrm flipH="1">
            <a:off x="2908080" y="5702400"/>
            <a:ext cx="1423800" cy="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75"/>
          <p:cNvGrpSpPr/>
          <p:nvPr/>
        </p:nvGrpSpPr>
        <p:grpSpPr>
          <a:xfrm>
            <a:off x="4392720" y="3542040"/>
            <a:ext cx="4032000" cy="1757160"/>
            <a:chOff x="4392720" y="3542040"/>
            <a:chExt cx="4032000" cy="1757160"/>
          </a:xfrm>
        </p:grpSpPr>
        <p:sp>
          <p:nvSpPr>
            <p:cNvPr id="59" name="AutoShape 11"/>
            <p:cNvSpPr/>
            <p:nvPr/>
          </p:nvSpPr>
          <p:spPr>
            <a:xfrm flipH="1">
              <a:off x="6275520" y="3767040"/>
              <a:ext cx="233280" cy="1295640"/>
            </a:xfrm>
            <a:custGeom>
              <a:avLst/>
              <a:gdLst>
                <a:gd name="textAreaLeft" fmla="*/ 149400 w 233280"/>
                <a:gd name="textAreaRight" fmla="*/ 234000 w 233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8"/>
                    <a:pt x="10800" y="1796"/>
                  </a:cubicBezTo>
                  <a:lnTo>
                    <a:pt x="10800" y="8818"/>
                  </a:lnTo>
                  <a:cubicBezTo>
                    <a:pt x="10800" y="9716"/>
                    <a:pt x="5400" y="10614"/>
                    <a:pt x="0" y="10614"/>
                  </a:cubicBezTo>
                  <a:cubicBezTo>
                    <a:pt x="5400" y="10614"/>
                    <a:pt x="10800" y="11512"/>
                    <a:pt x="10800" y="12410"/>
                  </a:cubicBezTo>
                  <a:lnTo>
                    <a:pt x="10800" y="19804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563c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44"/>
            <p:cNvGrpSpPr/>
            <p:nvPr/>
          </p:nvGrpSpPr>
          <p:grpSpPr>
            <a:xfrm>
              <a:off x="6534000" y="3900600"/>
              <a:ext cx="1890720" cy="991800"/>
              <a:chOff x="6534000" y="3900600"/>
              <a:chExt cx="1890720" cy="991800"/>
            </a:xfrm>
          </p:grpSpPr>
          <p:sp>
            <p:nvSpPr>
              <p:cNvPr id="61" name="AutoShape 38"/>
              <p:cNvSpPr/>
              <p:nvPr/>
            </p:nvSpPr>
            <p:spPr>
              <a:xfrm>
                <a:off x="6534000" y="3902040"/>
                <a:ext cx="1890720" cy="990360"/>
              </a:xfrm>
              <a:custGeom>
                <a:avLst/>
                <a:gdLst>
                  <a:gd name="textAreaLeft" fmla="*/ 64080 w 1890720"/>
                  <a:gd name="textAreaRight" fmla="*/ 1826640 w 1890720"/>
                  <a:gd name="textAreaTop" fmla="*/ 64080 h 990360"/>
                  <a:gd name="textAreaBottom" fmla="*/ 926280 h 990360"/>
                </a:gdLst>
                <a:ahLst/>
                <a:rect l="textAreaLeft" t="textAreaTop" r="textAreaRight" b="textAreaBottom"/>
                <a:pathLst>
                  <a:path w="41230" h="21600">
                    <a:moveTo>
                      <a:pt x="0" y="0"/>
                    </a:moveTo>
                    <a:lnTo>
                      <a:pt x="41230" y="0"/>
                    </a:lnTo>
                    <a:lnTo>
                      <a:pt x="41230" y="21600"/>
                    </a:lnTo>
                    <a:lnTo>
                      <a:pt x="0" y="21600"/>
                    </a:lnTo>
                    <a:close/>
                  </a:path>
                  <a:path fill="lightenLess" w="41230" h="21600">
                    <a:moveTo>
                      <a:pt x="0" y="0"/>
                    </a:moveTo>
                    <a:lnTo>
                      <a:pt x="41230" y="0"/>
                    </a:lnTo>
                    <a:lnTo>
                      <a:pt x="39830" y="1400"/>
                    </a:lnTo>
                    <a:lnTo>
                      <a:pt x="1400" y="1400"/>
                    </a:lnTo>
                    <a:close/>
                  </a:path>
                  <a:path fill="darken" w="41230" h="21600">
                    <a:moveTo>
                      <a:pt x="41230" y="0"/>
                    </a:moveTo>
                    <a:lnTo>
                      <a:pt x="41230" y="21600"/>
                    </a:lnTo>
                    <a:lnTo>
                      <a:pt x="39830" y="20200"/>
                    </a:lnTo>
                    <a:lnTo>
                      <a:pt x="39830" y="1400"/>
                    </a:lnTo>
                    <a:close/>
                  </a:path>
                  <a:path fill="darkenLess" w="41230" h="21600">
                    <a:moveTo>
                      <a:pt x="41230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9830" y="20200"/>
                    </a:lnTo>
                    <a:close/>
                  </a:path>
                  <a:path fill="lighten" w="41230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99"/>
                  </a:gs>
                  <a:gs pos="100000">
                    <a:srgbClr val="ffb0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4"/>
              <p:cNvSpPr/>
              <p:nvPr/>
            </p:nvSpPr>
            <p:spPr>
              <a:xfrm>
                <a:off x="6669000" y="3900600"/>
                <a:ext cx="16650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8081f"/>
                    </a:solidFill>
                    <a:latin typeface="Times New Roman"/>
                    <a:ea typeface="楷体"/>
                  </a:rPr>
                  <a:t>运动状态不改变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45"/>
            <p:cNvGrpSpPr/>
            <p:nvPr/>
          </p:nvGrpSpPr>
          <p:grpSpPr>
            <a:xfrm>
              <a:off x="4392720" y="4307400"/>
              <a:ext cx="1890720" cy="991800"/>
              <a:chOff x="4392720" y="4307400"/>
              <a:chExt cx="1890720" cy="991800"/>
            </a:xfrm>
          </p:grpSpPr>
          <p:sp>
            <p:nvSpPr>
              <p:cNvPr id="64" name="AutoShape 46"/>
              <p:cNvSpPr/>
              <p:nvPr/>
            </p:nvSpPr>
            <p:spPr>
              <a:xfrm>
                <a:off x="4392720" y="4354560"/>
                <a:ext cx="1890720" cy="944640"/>
              </a:xfrm>
              <a:custGeom>
                <a:avLst/>
                <a:gdLst>
                  <a:gd name="textAreaLeft" fmla="*/ 61200 w 1890720"/>
                  <a:gd name="textAreaRight" fmla="*/ 1829520 w 1890720"/>
                  <a:gd name="textAreaTop" fmla="*/ 61200 h 944640"/>
                  <a:gd name="textAreaBottom" fmla="*/ 883440 h 944640"/>
                </a:gdLst>
                <a:ahLst/>
                <a:rect l="textAreaLeft" t="textAreaTop" r="textAreaRight" b="textAreaBottom"/>
                <a:pathLst>
                  <a:path w="43225" h="21600">
                    <a:moveTo>
                      <a:pt x="0" y="0"/>
                    </a:moveTo>
                    <a:lnTo>
                      <a:pt x="43225" y="0"/>
                    </a:lnTo>
                    <a:lnTo>
                      <a:pt x="43225" y="21600"/>
                    </a:lnTo>
                    <a:lnTo>
                      <a:pt x="0" y="21600"/>
                    </a:lnTo>
                    <a:close/>
                  </a:path>
                  <a:path fill="lightenLess" w="43225" h="21600">
                    <a:moveTo>
                      <a:pt x="0" y="0"/>
                    </a:moveTo>
                    <a:lnTo>
                      <a:pt x="43225" y="0"/>
                    </a:lnTo>
                    <a:lnTo>
                      <a:pt x="41825" y="1400"/>
                    </a:lnTo>
                    <a:lnTo>
                      <a:pt x="1400" y="1400"/>
                    </a:lnTo>
                    <a:close/>
                  </a:path>
                  <a:path fill="darken" w="43225" h="21600">
                    <a:moveTo>
                      <a:pt x="43225" y="0"/>
                    </a:moveTo>
                    <a:lnTo>
                      <a:pt x="43225" y="21600"/>
                    </a:lnTo>
                    <a:lnTo>
                      <a:pt x="41825" y="20200"/>
                    </a:lnTo>
                    <a:lnTo>
                      <a:pt x="41825" y="1400"/>
                    </a:lnTo>
                    <a:close/>
                  </a:path>
                  <a:path fill="darkenLess" w="43225" h="21600">
                    <a:moveTo>
                      <a:pt x="43225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41825" y="20200"/>
                    </a:lnTo>
                    <a:close/>
                  </a:path>
                  <a:path fill="lighten" w="43225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99"/>
                  </a:gs>
                  <a:gs pos="100000">
                    <a:srgbClr val="ffb0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14"/>
              <p:cNvSpPr/>
              <p:nvPr/>
            </p:nvSpPr>
            <p:spPr>
              <a:xfrm>
                <a:off x="4527720" y="4307400"/>
                <a:ext cx="16650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8081f"/>
                    </a:solidFill>
                    <a:latin typeface="Times New Roman"/>
                    <a:ea typeface="楷体"/>
                  </a:rPr>
                  <a:t>匀速直线运动状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55"/>
            <p:cNvGrpSpPr/>
            <p:nvPr/>
          </p:nvGrpSpPr>
          <p:grpSpPr>
            <a:xfrm>
              <a:off x="4392720" y="3542040"/>
              <a:ext cx="1845720" cy="520560"/>
              <a:chOff x="4392720" y="3542040"/>
              <a:chExt cx="1845720" cy="520560"/>
            </a:xfrm>
          </p:grpSpPr>
          <p:sp>
            <p:nvSpPr>
              <p:cNvPr id="67" name="AutoShape 49"/>
              <p:cNvSpPr/>
              <p:nvPr/>
            </p:nvSpPr>
            <p:spPr>
              <a:xfrm>
                <a:off x="4392720" y="3587760"/>
                <a:ext cx="1845720" cy="455760"/>
              </a:xfrm>
              <a:custGeom>
                <a:avLst/>
                <a:gdLst>
                  <a:gd name="textAreaLeft" fmla="*/ 29520 w 1845720"/>
                  <a:gd name="textAreaRight" fmla="*/ 1816200 w 1845720"/>
                  <a:gd name="textAreaTop" fmla="*/ 29520 h 455760"/>
                  <a:gd name="textAreaBottom" fmla="*/ 426240 h 455760"/>
                </a:gdLst>
                <a:ahLst/>
                <a:rect l="textAreaLeft" t="textAreaTop" r="textAreaRight" b="textAreaBottom"/>
                <a:pathLst>
                  <a:path w="87423" h="21600">
                    <a:moveTo>
                      <a:pt x="0" y="0"/>
                    </a:moveTo>
                    <a:lnTo>
                      <a:pt x="87423" y="0"/>
                    </a:lnTo>
                    <a:lnTo>
                      <a:pt x="87423" y="21600"/>
                    </a:lnTo>
                    <a:lnTo>
                      <a:pt x="0" y="21600"/>
                    </a:lnTo>
                    <a:close/>
                  </a:path>
                  <a:path fill="lightenLess" w="87423" h="21600">
                    <a:moveTo>
                      <a:pt x="0" y="0"/>
                    </a:moveTo>
                    <a:lnTo>
                      <a:pt x="87423" y="0"/>
                    </a:lnTo>
                    <a:lnTo>
                      <a:pt x="86023" y="1400"/>
                    </a:lnTo>
                    <a:lnTo>
                      <a:pt x="1400" y="1400"/>
                    </a:lnTo>
                    <a:close/>
                  </a:path>
                  <a:path fill="darken" w="87423" h="21600">
                    <a:moveTo>
                      <a:pt x="87423" y="0"/>
                    </a:moveTo>
                    <a:lnTo>
                      <a:pt x="87423" y="21600"/>
                    </a:lnTo>
                    <a:lnTo>
                      <a:pt x="86023" y="20200"/>
                    </a:lnTo>
                    <a:lnTo>
                      <a:pt x="86023" y="1400"/>
                    </a:lnTo>
                    <a:close/>
                  </a:path>
                  <a:path fill="darkenLess" w="87423" h="21600">
                    <a:moveTo>
                      <a:pt x="87423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86023" y="20200"/>
                    </a:lnTo>
                    <a:close/>
                  </a:path>
                  <a:path fill="lighten" w="87423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99"/>
                  </a:gs>
                  <a:gs pos="100000">
                    <a:srgbClr val="ffb0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14"/>
              <p:cNvSpPr/>
              <p:nvPr/>
            </p:nvSpPr>
            <p:spPr>
              <a:xfrm>
                <a:off x="4485600" y="3542040"/>
                <a:ext cx="166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8081f"/>
                    </a:solidFill>
                    <a:latin typeface="Times New Roman"/>
                    <a:ea typeface="楷体"/>
                  </a:rPr>
                  <a:t>静止状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Group 77"/>
          <p:cNvGrpSpPr/>
          <p:nvPr/>
        </p:nvGrpSpPr>
        <p:grpSpPr>
          <a:xfrm>
            <a:off x="4302000" y="5475600"/>
            <a:ext cx="3210120" cy="541080"/>
            <a:chOff x="4302000" y="5475600"/>
            <a:chExt cx="3210120" cy="541080"/>
          </a:xfrm>
        </p:grpSpPr>
        <p:sp>
          <p:nvSpPr>
            <p:cNvPr id="70" name="AutoShape 52"/>
            <p:cNvSpPr/>
            <p:nvPr/>
          </p:nvSpPr>
          <p:spPr>
            <a:xfrm>
              <a:off x="4362480" y="5484960"/>
              <a:ext cx="3149640" cy="531720"/>
            </a:xfrm>
            <a:custGeom>
              <a:avLst/>
              <a:gdLst>
                <a:gd name="textAreaLeft" fmla="*/ 34200 w 3149640"/>
                <a:gd name="textAreaRight" fmla="*/ 3115440 w 3149640"/>
                <a:gd name="textAreaTop" fmla="*/ 34200 h 531720"/>
                <a:gd name="textAreaBottom" fmla="*/ 497520 h 531720"/>
              </a:gdLst>
              <a:ahLst/>
              <a:rect l="textAreaLeft" t="textAreaTop" r="textAreaRight" b="textAreaBottom"/>
              <a:pathLst>
                <a:path w="127876" h="21600">
                  <a:moveTo>
                    <a:pt x="0" y="0"/>
                  </a:moveTo>
                  <a:lnTo>
                    <a:pt x="127876" y="0"/>
                  </a:lnTo>
                  <a:lnTo>
                    <a:pt x="127876" y="21600"/>
                  </a:lnTo>
                  <a:lnTo>
                    <a:pt x="0" y="21600"/>
                  </a:lnTo>
                  <a:close/>
                </a:path>
                <a:path fill="lightenLess" w="127876" h="21600">
                  <a:moveTo>
                    <a:pt x="0" y="0"/>
                  </a:moveTo>
                  <a:lnTo>
                    <a:pt x="127876" y="0"/>
                  </a:lnTo>
                  <a:lnTo>
                    <a:pt x="126476" y="1400"/>
                  </a:lnTo>
                  <a:lnTo>
                    <a:pt x="1400" y="1400"/>
                  </a:lnTo>
                  <a:close/>
                </a:path>
                <a:path fill="darken" w="127876" h="21600">
                  <a:moveTo>
                    <a:pt x="127876" y="0"/>
                  </a:moveTo>
                  <a:lnTo>
                    <a:pt x="127876" y="21600"/>
                  </a:lnTo>
                  <a:lnTo>
                    <a:pt x="126476" y="20200"/>
                  </a:lnTo>
                  <a:lnTo>
                    <a:pt x="126476" y="1400"/>
                  </a:lnTo>
                  <a:close/>
                </a:path>
                <a:path fill="darkenLess" w="127876" h="21600">
                  <a:moveTo>
                    <a:pt x="12787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26476" y="20200"/>
                  </a:lnTo>
                  <a:close/>
                </a:path>
                <a:path fill="lighten" w="12787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b0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4"/>
            <p:cNvSpPr/>
            <p:nvPr/>
          </p:nvSpPr>
          <p:spPr>
            <a:xfrm>
              <a:off x="4302000" y="5475600"/>
              <a:ext cx="321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8081f"/>
                  </a:solidFill>
                  <a:latin typeface="Times New Roman"/>
                  <a:ea typeface="楷体"/>
                </a:rPr>
                <a:t>运动状态发生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76"/>
          <p:cNvGrpSpPr/>
          <p:nvPr/>
        </p:nvGrpSpPr>
        <p:grpSpPr>
          <a:xfrm>
            <a:off x="1152360" y="3561840"/>
            <a:ext cx="1620720" cy="1444680"/>
            <a:chOff x="1152360" y="3561840"/>
            <a:chExt cx="1620720" cy="1444680"/>
          </a:xfrm>
        </p:grpSpPr>
        <p:grpSp>
          <p:nvGrpSpPr>
            <p:cNvPr id="73" name="Group 43"/>
            <p:cNvGrpSpPr/>
            <p:nvPr/>
          </p:nvGrpSpPr>
          <p:grpSpPr>
            <a:xfrm>
              <a:off x="1197000" y="3561840"/>
              <a:ext cx="1439280" cy="520560"/>
              <a:chOff x="1197000" y="3561840"/>
              <a:chExt cx="1439280" cy="520560"/>
            </a:xfrm>
          </p:grpSpPr>
          <p:sp>
            <p:nvSpPr>
              <p:cNvPr id="74" name="AutoShape 37"/>
              <p:cNvSpPr/>
              <p:nvPr/>
            </p:nvSpPr>
            <p:spPr>
              <a:xfrm>
                <a:off x="1197000" y="3582000"/>
                <a:ext cx="1439280" cy="489240"/>
              </a:xfrm>
              <a:custGeom>
                <a:avLst/>
                <a:gdLst>
                  <a:gd name="textAreaLeft" fmla="*/ 31680 w 1439280"/>
                  <a:gd name="textAreaRight" fmla="*/ 1407600 w 1439280"/>
                  <a:gd name="textAreaTop" fmla="*/ 31680 h 489240"/>
                  <a:gd name="textAreaBottom" fmla="*/ 457560 h 489240"/>
                </a:gdLst>
                <a:ahLst/>
                <a:rect l="textAreaLeft" t="textAreaTop" r="textAreaRight" b="textAreaBottom"/>
                <a:pathLst>
                  <a:path w="63514" h="21600">
                    <a:moveTo>
                      <a:pt x="0" y="0"/>
                    </a:moveTo>
                    <a:lnTo>
                      <a:pt x="63514" y="0"/>
                    </a:lnTo>
                    <a:lnTo>
                      <a:pt x="63514" y="21600"/>
                    </a:lnTo>
                    <a:lnTo>
                      <a:pt x="0" y="21600"/>
                    </a:lnTo>
                    <a:close/>
                  </a:path>
                  <a:path fill="lightenLess" w="63514" h="21600">
                    <a:moveTo>
                      <a:pt x="0" y="0"/>
                    </a:moveTo>
                    <a:lnTo>
                      <a:pt x="63514" y="0"/>
                    </a:lnTo>
                    <a:lnTo>
                      <a:pt x="62114" y="1400"/>
                    </a:lnTo>
                    <a:lnTo>
                      <a:pt x="1400" y="1400"/>
                    </a:lnTo>
                    <a:close/>
                  </a:path>
                  <a:path fill="darken" w="63514" h="21600">
                    <a:moveTo>
                      <a:pt x="63514" y="0"/>
                    </a:moveTo>
                    <a:lnTo>
                      <a:pt x="63514" y="21600"/>
                    </a:lnTo>
                    <a:lnTo>
                      <a:pt x="62114" y="20200"/>
                    </a:lnTo>
                    <a:lnTo>
                      <a:pt x="62114" y="1400"/>
                    </a:lnTo>
                    <a:close/>
                  </a:path>
                  <a:path fill="darkenLess" w="63514" h="21600">
                    <a:moveTo>
                      <a:pt x="6351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62114" y="20200"/>
                    </a:lnTo>
                    <a:close/>
                  </a:path>
                  <a:path fill="lighten" w="6351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99"/>
                  </a:gs>
                  <a:gs pos="100000">
                    <a:srgbClr val="ffb0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4"/>
              <p:cNvSpPr/>
              <p:nvPr/>
            </p:nvSpPr>
            <p:spPr>
              <a:xfrm>
                <a:off x="1262160" y="3561840"/>
                <a:ext cx="1328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不受力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59"/>
            <p:cNvGrpSpPr/>
            <p:nvPr/>
          </p:nvGrpSpPr>
          <p:grpSpPr>
            <a:xfrm>
              <a:off x="1152360" y="4485960"/>
              <a:ext cx="1620720" cy="520560"/>
              <a:chOff x="1152360" y="4485960"/>
              <a:chExt cx="1620720" cy="520560"/>
            </a:xfrm>
          </p:grpSpPr>
          <p:sp>
            <p:nvSpPr>
              <p:cNvPr id="77" name="AutoShape 57"/>
              <p:cNvSpPr/>
              <p:nvPr/>
            </p:nvSpPr>
            <p:spPr>
              <a:xfrm>
                <a:off x="1152360" y="4520880"/>
                <a:ext cx="1619280" cy="485640"/>
              </a:xfrm>
              <a:custGeom>
                <a:avLst/>
                <a:gdLst>
                  <a:gd name="textAreaLeft" fmla="*/ 31320 w 1619280"/>
                  <a:gd name="textAreaRight" fmla="*/ 1587960 w 1619280"/>
                  <a:gd name="textAreaTop" fmla="*/ 31320 h 485640"/>
                  <a:gd name="textAreaBottom" fmla="*/ 454320 h 485640"/>
                </a:gdLst>
                <a:ahLst/>
                <a:rect l="textAreaLeft" t="textAreaTop" r="textAreaRight" b="textAreaBottom"/>
                <a:pathLst>
                  <a:path w="71984" h="21600">
                    <a:moveTo>
                      <a:pt x="0" y="0"/>
                    </a:moveTo>
                    <a:lnTo>
                      <a:pt x="71984" y="0"/>
                    </a:lnTo>
                    <a:lnTo>
                      <a:pt x="71984" y="21600"/>
                    </a:lnTo>
                    <a:lnTo>
                      <a:pt x="0" y="21600"/>
                    </a:lnTo>
                    <a:close/>
                  </a:path>
                  <a:path fill="lightenLess" w="71984" h="21600">
                    <a:moveTo>
                      <a:pt x="0" y="0"/>
                    </a:moveTo>
                    <a:lnTo>
                      <a:pt x="71984" y="0"/>
                    </a:lnTo>
                    <a:lnTo>
                      <a:pt x="70584" y="1400"/>
                    </a:lnTo>
                    <a:lnTo>
                      <a:pt x="1400" y="1400"/>
                    </a:lnTo>
                    <a:close/>
                  </a:path>
                  <a:path fill="darken" w="71984" h="21600">
                    <a:moveTo>
                      <a:pt x="71984" y="0"/>
                    </a:moveTo>
                    <a:lnTo>
                      <a:pt x="71984" y="21600"/>
                    </a:lnTo>
                    <a:lnTo>
                      <a:pt x="70584" y="20200"/>
                    </a:lnTo>
                    <a:lnTo>
                      <a:pt x="70584" y="1400"/>
                    </a:lnTo>
                    <a:close/>
                  </a:path>
                  <a:path fill="darkenLess" w="71984" h="21600">
                    <a:moveTo>
                      <a:pt x="7198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70584" y="20200"/>
                    </a:lnTo>
                    <a:close/>
                  </a:path>
                  <a:path fill="lighten" w="7198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99"/>
                  </a:gs>
                  <a:gs pos="100000">
                    <a:srgbClr val="ffb0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4"/>
              <p:cNvSpPr/>
              <p:nvPr/>
            </p:nvSpPr>
            <p:spPr>
              <a:xfrm>
                <a:off x="1152360" y="4485960"/>
                <a:ext cx="16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受平衡力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Group 63"/>
          <p:cNvGrpSpPr/>
          <p:nvPr/>
        </p:nvGrpSpPr>
        <p:grpSpPr>
          <a:xfrm>
            <a:off x="927000" y="5477040"/>
            <a:ext cx="2025720" cy="544320"/>
            <a:chOff x="927000" y="5477040"/>
            <a:chExt cx="2025720" cy="544320"/>
          </a:xfrm>
        </p:grpSpPr>
        <p:sp>
          <p:nvSpPr>
            <p:cNvPr id="80" name="AutoShape 61"/>
            <p:cNvSpPr/>
            <p:nvPr/>
          </p:nvSpPr>
          <p:spPr>
            <a:xfrm>
              <a:off x="927000" y="5502240"/>
              <a:ext cx="2025720" cy="519120"/>
            </a:xfrm>
            <a:custGeom>
              <a:avLst/>
              <a:gdLst>
                <a:gd name="textAreaLeft" fmla="*/ 33480 w 2025720"/>
                <a:gd name="textAreaRight" fmla="*/ 1992240 w 2025720"/>
                <a:gd name="textAreaTop" fmla="*/ 33480 h 519120"/>
                <a:gd name="textAreaBottom" fmla="*/ 485640 h 519120"/>
              </a:gdLst>
              <a:ahLst/>
              <a:rect l="textAreaLeft" t="textAreaTop" r="textAreaRight" b="textAreaBottom"/>
              <a:pathLst>
                <a:path w="84244" h="21600">
                  <a:moveTo>
                    <a:pt x="0" y="0"/>
                  </a:moveTo>
                  <a:lnTo>
                    <a:pt x="84244" y="0"/>
                  </a:lnTo>
                  <a:lnTo>
                    <a:pt x="84244" y="21600"/>
                  </a:lnTo>
                  <a:lnTo>
                    <a:pt x="0" y="21600"/>
                  </a:lnTo>
                  <a:close/>
                </a:path>
                <a:path fill="lightenLess" w="84244" h="21600">
                  <a:moveTo>
                    <a:pt x="0" y="0"/>
                  </a:moveTo>
                  <a:lnTo>
                    <a:pt x="84244" y="0"/>
                  </a:lnTo>
                  <a:lnTo>
                    <a:pt x="82845" y="1400"/>
                  </a:lnTo>
                  <a:lnTo>
                    <a:pt x="1400" y="1400"/>
                  </a:lnTo>
                  <a:close/>
                </a:path>
                <a:path fill="darken" w="84244" h="21600">
                  <a:moveTo>
                    <a:pt x="84244" y="0"/>
                  </a:moveTo>
                  <a:lnTo>
                    <a:pt x="84244" y="21600"/>
                  </a:lnTo>
                  <a:lnTo>
                    <a:pt x="82845" y="20200"/>
                  </a:lnTo>
                  <a:lnTo>
                    <a:pt x="82845" y="1400"/>
                  </a:lnTo>
                  <a:close/>
                </a:path>
                <a:path fill="darkenLess" w="84244" h="21600">
                  <a:moveTo>
                    <a:pt x="84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2845" y="20200"/>
                  </a:lnTo>
                  <a:close/>
                </a:path>
                <a:path fill="lighten" w="84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b0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4"/>
            <p:cNvSpPr/>
            <p:nvPr/>
          </p:nvSpPr>
          <p:spPr>
            <a:xfrm>
              <a:off x="927000" y="547704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受非平衡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71"/>
          <p:cNvGrpSpPr/>
          <p:nvPr/>
        </p:nvGrpSpPr>
        <p:grpSpPr>
          <a:xfrm>
            <a:off x="684360" y="2347920"/>
            <a:ext cx="6075000" cy="1093680"/>
            <a:chOff x="684360" y="2347920"/>
            <a:chExt cx="6075000" cy="1093680"/>
          </a:xfrm>
        </p:grpSpPr>
        <p:grpSp>
          <p:nvGrpSpPr>
            <p:cNvPr id="83" name="Group 41"/>
            <p:cNvGrpSpPr/>
            <p:nvPr/>
          </p:nvGrpSpPr>
          <p:grpSpPr>
            <a:xfrm>
              <a:off x="684360" y="2359080"/>
              <a:ext cx="2476080" cy="520560"/>
              <a:chOff x="684360" y="2359080"/>
              <a:chExt cx="2476080" cy="520560"/>
            </a:xfrm>
          </p:grpSpPr>
          <p:sp>
            <p:nvSpPr>
              <p:cNvPr id="84" name="AutoShape 36"/>
              <p:cNvSpPr/>
              <p:nvPr/>
            </p:nvSpPr>
            <p:spPr>
              <a:xfrm>
                <a:off x="684360" y="2370240"/>
                <a:ext cx="2430360" cy="504720"/>
              </a:xfrm>
              <a:custGeom>
                <a:avLst/>
                <a:gdLst>
                  <a:gd name="textAreaLeft" fmla="*/ 32400 w 2430360"/>
                  <a:gd name="textAreaRight" fmla="*/ 2397960 w 2430360"/>
                  <a:gd name="textAreaTop" fmla="*/ 32400 h 504720"/>
                  <a:gd name="textAreaBottom" fmla="*/ 472320 h 504720"/>
                </a:gdLst>
                <a:ahLst/>
                <a:rect l="textAreaLeft" t="textAreaTop" r="textAreaRight" b="textAreaBottom"/>
                <a:pathLst>
                  <a:path w="103951" h="21600">
                    <a:moveTo>
                      <a:pt x="0" y="0"/>
                    </a:moveTo>
                    <a:lnTo>
                      <a:pt x="103951" y="0"/>
                    </a:lnTo>
                    <a:lnTo>
                      <a:pt x="103951" y="21600"/>
                    </a:lnTo>
                    <a:lnTo>
                      <a:pt x="0" y="21600"/>
                    </a:lnTo>
                    <a:close/>
                  </a:path>
                  <a:path fill="lightenLess" w="103951" h="21600">
                    <a:moveTo>
                      <a:pt x="0" y="0"/>
                    </a:moveTo>
                    <a:lnTo>
                      <a:pt x="103951" y="0"/>
                    </a:lnTo>
                    <a:lnTo>
                      <a:pt x="102551" y="1400"/>
                    </a:lnTo>
                    <a:lnTo>
                      <a:pt x="1400" y="1400"/>
                    </a:lnTo>
                    <a:close/>
                  </a:path>
                  <a:path fill="darken" w="103951" h="21600">
                    <a:moveTo>
                      <a:pt x="103951" y="0"/>
                    </a:moveTo>
                    <a:lnTo>
                      <a:pt x="103951" y="21600"/>
                    </a:lnTo>
                    <a:lnTo>
                      <a:pt x="102551" y="20200"/>
                    </a:lnTo>
                    <a:lnTo>
                      <a:pt x="102551" y="1400"/>
                    </a:lnTo>
                    <a:close/>
                  </a:path>
                  <a:path fill="darkenLess" w="103951" h="21600">
                    <a:moveTo>
                      <a:pt x="103951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102551" y="20200"/>
                    </a:lnTo>
                    <a:close/>
                  </a:path>
                  <a:path fill="lighten" w="103951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caff"/>
                  </a:gs>
                  <a:gs pos="100000">
                    <a:srgbClr val="43b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2"/>
              <p:cNvSpPr/>
              <p:nvPr/>
            </p:nvSpPr>
            <p:spPr>
              <a:xfrm>
                <a:off x="730080" y="2359080"/>
                <a:ext cx="243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物体受力情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42"/>
            <p:cNvGrpSpPr/>
            <p:nvPr/>
          </p:nvGrpSpPr>
          <p:grpSpPr>
            <a:xfrm>
              <a:off x="4329000" y="2347920"/>
              <a:ext cx="2430360" cy="552240"/>
              <a:chOff x="4329000" y="2347920"/>
              <a:chExt cx="2430360" cy="552240"/>
            </a:xfrm>
          </p:grpSpPr>
          <p:sp>
            <p:nvSpPr>
              <p:cNvPr id="87" name="AutoShape 40"/>
              <p:cNvSpPr/>
              <p:nvPr/>
            </p:nvSpPr>
            <p:spPr>
              <a:xfrm>
                <a:off x="4329000" y="2395440"/>
                <a:ext cx="2430360" cy="504720"/>
              </a:xfrm>
              <a:custGeom>
                <a:avLst/>
                <a:gdLst>
                  <a:gd name="textAreaLeft" fmla="*/ 32400 w 2430360"/>
                  <a:gd name="textAreaRight" fmla="*/ 2397960 w 2430360"/>
                  <a:gd name="textAreaTop" fmla="*/ 32400 h 504720"/>
                  <a:gd name="textAreaBottom" fmla="*/ 472320 h 504720"/>
                </a:gdLst>
                <a:ahLst/>
                <a:rect l="textAreaLeft" t="textAreaTop" r="textAreaRight" b="textAreaBottom"/>
                <a:pathLst>
                  <a:path w="103951" h="21600">
                    <a:moveTo>
                      <a:pt x="0" y="0"/>
                    </a:moveTo>
                    <a:lnTo>
                      <a:pt x="103951" y="0"/>
                    </a:lnTo>
                    <a:lnTo>
                      <a:pt x="103951" y="21600"/>
                    </a:lnTo>
                    <a:lnTo>
                      <a:pt x="0" y="21600"/>
                    </a:lnTo>
                    <a:close/>
                  </a:path>
                  <a:path fill="lightenLess" w="103951" h="21600">
                    <a:moveTo>
                      <a:pt x="0" y="0"/>
                    </a:moveTo>
                    <a:lnTo>
                      <a:pt x="103951" y="0"/>
                    </a:lnTo>
                    <a:lnTo>
                      <a:pt x="102551" y="1400"/>
                    </a:lnTo>
                    <a:lnTo>
                      <a:pt x="1400" y="1400"/>
                    </a:lnTo>
                    <a:close/>
                  </a:path>
                  <a:path fill="darken" w="103951" h="21600">
                    <a:moveTo>
                      <a:pt x="103951" y="0"/>
                    </a:moveTo>
                    <a:lnTo>
                      <a:pt x="103951" y="21600"/>
                    </a:lnTo>
                    <a:lnTo>
                      <a:pt x="102551" y="20200"/>
                    </a:lnTo>
                    <a:lnTo>
                      <a:pt x="102551" y="1400"/>
                    </a:lnTo>
                    <a:close/>
                  </a:path>
                  <a:path fill="darkenLess" w="103951" h="21600">
                    <a:moveTo>
                      <a:pt x="103951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102551" y="20200"/>
                    </a:lnTo>
                    <a:close/>
                  </a:path>
                  <a:path fill="lighten" w="103951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caff"/>
                  </a:gs>
                  <a:gs pos="100000">
                    <a:srgbClr val="43b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3"/>
              <p:cNvSpPr/>
              <p:nvPr/>
            </p:nvSpPr>
            <p:spPr>
              <a:xfrm>
                <a:off x="4375080" y="2347920"/>
                <a:ext cx="234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8081f"/>
                    </a:solidFill>
                    <a:latin typeface="Times New Roman"/>
                    <a:ea typeface="楷体"/>
                  </a:rPr>
                  <a:t>物体运动情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AutoShape 64"/>
            <p:cNvSpPr/>
            <p:nvPr/>
          </p:nvSpPr>
          <p:spPr>
            <a:xfrm>
              <a:off x="1674720" y="2900160"/>
              <a:ext cx="270000" cy="495360"/>
            </a:xfrm>
            <a:prstGeom prst="downArrow">
              <a:avLst>
                <a:gd name="adj1" fmla="val 50000"/>
                <a:gd name="adj2" fmla="val 45833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65"/>
            <p:cNvSpPr/>
            <p:nvPr/>
          </p:nvSpPr>
          <p:spPr>
            <a:xfrm>
              <a:off x="5275080" y="2946240"/>
              <a:ext cx="270000" cy="495360"/>
            </a:xfrm>
            <a:prstGeom prst="downArrow">
              <a:avLst>
                <a:gd name="adj1" fmla="val 50000"/>
                <a:gd name="adj2" fmla="val 45833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0"/>
          <p:cNvGrpSpPr/>
          <p:nvPr/>
        </p:nvGrpSpPr>
        <p:grpSpPr>
          <a:xfrm>
            <a:off x="611280" y="692280"/>
            <a:ext cx="2055600" cy="633240"/>
            <a:chOff x="611280" y="692280"/>
            <a:chExt cx="2055600" cy="633240"/>
          </a:xfrm>
        </p:grpSpPr>
        <p:grpSp>
          <p:nvGrpSpPr>
            <p:cNvPr id="92" name="Group 11"/>
            <p:cNvGrpSpPr/>
            <p:nvPr/>
          </p:nvGrpSpPr>
          <p:grpSpPr>
            <a:xfrm>
              <a:off x="611280" y="696960"/>
              <a:ext cx="2055600" cy="596520"/>
              <a:chOff x="611280" y="696960"/>
              <a:chExt cx="2055600" cy="596520"/>
            </a:xfrm>
          </p:grpSpPr>
          <p:sp>
            <p:nvSpPr>
              <p:cNvPr id="93" name="MH_Other_2"/>
              <p:cNvSpPr/>
              <p:nvPr/>
            </p:nvSpPr>
            <p:spPr>
              <a:xfrm>
                <a:off x="729360" y="826920"/>
                <a:ext cx="1835280" cy="38088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" name="MH_Other_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696960"/>
                <a:ext cx="2055600" cy="59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MH_Other_9"/>
              <p:cNvSpPr/>
              <p:nvPr/>
            </p:nvSpPr>
            <p:spPr>
              <a:xfrm>
                <a:off x="832320" y="905400"/>
                <a:ext cx="221400" cy="21528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MH_Other_10"/>
              <p:cNvSpPr/>
              <p:nvPr/>
            </p:nvSpPr>
            <p:spPr>
              <a:xfrm>
                <a:off x="882720" y="95292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MH_SubTitle_4"/>
            <p:cNvSpPr/>
            <p:nvPr/>
          </p:nvSpPr>
          <p:spPr>
            <a:xfrm>
              <a:off x="1260360" y="692280"/>
              <a:ext cx="12978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知识梳理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116000" y="781200"/>
            <a:ext cx="3294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f8081f"/>
                </a:solidFill>
                <a:latin typeface="Arial"/>
                <a:ea typeface="黑体"/>
              </a:rPr>
              <a:t>．牛顿第一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"/>
          <p:cNvSpPr/>
          <p:nvPr/>
        </p:nvSpPr>
        <p:spPr>
          <a:xfrm>
            <a:off x="1116000" y="2652840"/>
            <a:ext cx="1971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f8081f"/>
                </a:solidFill>
                <a:latin typeface="黑体"/>
                <a:ea typeface="黑体"/>
              </a:rPr>
              <a:t>．惯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5"/>
          <p:cNvSpPr/>
          <p:nvPr/>
        </p:nvSpPr>
        <p:spPr>
          <a:xfrm>
            <a:off x="1062000" y="1434960"/>
            <a:ext cx="7246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Arial"/>
                <a:ea typeface="楷体"/>
              </a:rPr>
              <a:t>一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物体在</a:t>
            </a:r>
            <a:r>
              <a:rPr b="1" lang="zh-CN" sz="2800" spc="-1" strike="noStrike">
                <a:solidFill>
                  <a:srgbClr val="f8081f"/>
                </a:solidFill>
                <a:latin typeface="Arial"/>
                <a:ea typeface="楷体"/>
              </a:rPr>
              <a:t>没有受到力的作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时，</a:t>
            </a:r>
            <a:r>
              <a:rPr b="1" lang="zh-CN" sz="2800" spc="-1" strike="noStrike">
                <a:solidFill>
                  <a:srgbClr val="f8081f"/>
                </a:solidFill>
                <a:latin typeface="Arial"/>
                <a:ea typeface="楷体"/>
              </a:rPr>
              <a:t>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保持</a:t>
            </a:r>
            <a:r>
              <a:rPr b="1" lang="zh-CN" sz="2800" spc="-1" strike="noStrike">
                <a:solidFill>
                  <a:srgbClr val="f8081f"/>
                </a:solidFill>
                <a:latin typeface="Arial"/>
                <a:ea typeface="楷体"/>
              </a:rPr>
              <a:t>静止状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或</a:t>
            </a:r>
            <a:r>
              <a:rPr b="1" lang="zh-CN" sz="2800" spc="-1" strike="noStrike">
                <a:solidFill>
                  <a:srgbClr val="f8081f"/>
                </a:solidFill>
                <a:latin typeface="Arial"/>
                <a:ea typeface="楷体"/>
              </a:rPr>
              <a:t>匀速直线运动状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6"/>
          <p:cNvSpPr/>
          <p:nvPr/>
        </p:nvSpPr>
        <p:spPr>
          <a:xfrm>
            <a:off x="1116000" y="4237200"/>
            <a:ext cx="6210360" cy="1970280"/>
          </a:xfrm>
          <a:prstGeom prst="rect">
            <a:avLst/>
          </a:prstGeom>
          <a:noFill/>
          <a:ln w="28440">
            <a:solidFill>
              <a:srgbClr val="57b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  <a:ea typeface="黑体"/>
              </a:rPr>
              <a:t>●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惯性是物体固有的一种属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  <a:ea typeface="黑体"/>
              </a:rPr>
              <a:t>●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物体在任何情况下都具有惯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  <a:ea typeface="黑体"/>
              </a:rPr>
              <a:t>●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物体的惯性只跟物体的质量有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  <a:ea typeface="黑体"/>
              </a:rPr>
              <a:t>●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跟物体的运动情况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1042920" y="3213000"/>
            <a:ext cx="729144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一切物体都有保持原来运动状态不变的性质，我们把这种性质叫做惯性（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inertia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"/>
          <p:cNvSpPr/>
          <p:nvPr/>
        </p:nvSpPr>
        <p:spPr>
          <a:xfrm>
            <a:off x="468360" y="1019160"/>
            <a:ext cx="71532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3</a:t>
            </a:r>
            <a:r>
              <a:rPr b="0" lang="en-US" sz="3200" spc="-1" strike="noStrike">
                <a:solidFill>
                  <a:srgbClr val="f8081f"/>
                </a:solidFill>
                <a:latin typeface="黑体"/>
                <a:ea typeface="黑体"/>
              </a:rPr>
              <a:t>.</a:t>
            </a:r>
            <a:r>
              <a:rPr b="0" lang="zh-CN" sz="3200" spc="-1" strike="noStrike">
                <a:solidFill>
                  <a:srgbClr val="f8081f"/>
                </a:solidFill>
                <a:latin typeface="黑体"/>
                <a:ea typeface="黑体"/>
              </a:rPr>
              <a:t>平衡状态（运动状态不变）和平衡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468360" y="4005360"/>
            <a:ext cx="2970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4.</a:t>
            </a:r>
            <a:r>
              <a:rPr b="0" lang="zh-CN" sz="3200" spc="-1" strike="noStrike">
                <a:solidFill>
                  <a:srgbClr val="f8081f"/>
                </a:solidFill>
                <a:latin typeface="黑体"/>
                <a:ea typeface="黑体"/>
              </a:rPr>
              <a:t>二力平衡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431640" y="5065560"/>
            <a:ext cx="57610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同体、共线、反向、等大的两个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4"/>
          <p:cNvGrpSpPr/>
          <p:nvPr/>
        </p:nvGrpSpPr>
        <p:grpSpPr>
          <a:xfrm>
            <a:off x="468360" y="1916280"/>
            <a:ext cx="8280360" cy="1550880"/>
            <a:chOff x="468360" y="1916280"/>
            <a:chExt cx="8280360" cy="1550880"/>
          </a:xfrm>
        </p:grpSpPr>
        <p:sp>
          <p:nvSpPr>
            <p:cNvPr id="107" name="Rectangle 3"/>
            <p:cNvSpPr/>
            <p:nvPr/>
          </p:nvSpPr>
          <p:spPr>
            <a:xfrm>
              <a:off x="2760840" y="1916280"/>
              <a:ext cx="3149640" cy="5205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静止状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6361200" y="2394000"/>
              <a:ext cx="2387520" cy="5205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受力为平衡力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468360" y="2411640"/>
              <a:ext cx="1752840" cy="5205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平衡状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9"/>
            <p:cNvSpPr/>
            <p:nvPr/>
          </p:nvSpPr>
          <p:spPr>
            <a:xfrm>
              <a:off x="2265480" y="2185920"/>
              <a:ext cx="450720" cy="1035360"/>
            </a:xfrm>
            <a:custGeom>
              <a:avLst/>
              <a:gdLst>
                <a:gd name="textAreaLeft" fmla="*/ 288000 w 450720"/>
                <a:gd name="textAreaRight" fmla="*/ 451080 w 450720"/>
                <a:gd name="textAreaTop" fmla="*/ 80640 h 1035360"/>
                <a:gd name="textAreaBottom" fmla="*/ 954720 h 103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698"/>
                    <a:pt x="10800" y="5396"/>
                  </a:cubicBezTo>
                  <a:lnTo>
                    <a:pt x="10800" y="5404"/>
                  </a:lnTo>
                  <a:cubicBezTo>
                    <a:pt x="10800" y="8102"/>
                    <a:pt x="5400" y="10800"/>
                    <a:pt x="0" y="10800"/>
                  </a:cubicBezTo>
                  <a:cubicBezTo>
                    <a:pt x="5400" y="10800"/>
                    <a:pt x="10800" y="13498"/>
                    <a:pt x="10800" y="16196"/>
                  </a:cubicBezTo>
                  <a:lnTo>
                    <a:pt x="10800" y="16204"/>
                  </a:lnTo>
                  <a:cubicBezTo>
                    <a:pt x="10800" y="18902"/>
                    <a:pt x="16200" y="21600"/>
                    <a:pt x="21600" y="21600"/>
                  </a:cubicBezTo>
                </a:path>
              </a:pathLst>
            </a:custGeom>
            <a:solidFill>
              <a:srgbClr val="99ccff"/>
            </a:solidFill>
            <a:ln w="2556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"/>
            <p:cNvSpPr/>
            <p:nvPr/>
          </p:nvSpPr>
          <p:spPr>
            <a:xfrm>
              <a:off x="2805120" y="2946600"/>
              <a:ext cx="3151440" cy="5205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匀速直线运动状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9"/>
            <p:cNvSpPr/>
            <p:nvPr/>
          </p:nvSpPr>
          <p:spPr>
            <a:xfrm flipH="1">
              <a:off x="5911200" y="2185920"/>
              <a:ext cx="451080" cy="1035360"/>
            </a:xfrm>
            <a:custGeom>
              <a:avLst/>
              <a:gdLst>
                <a:gd name="textAreaLeft" fmla="*/ 288360 w 451080"/>
                <a:gd name="textAreaRight" fmla="*/ 451440 w 451080"/>
                <a:gd name="textAreaTop" fmla="*/ 0 h 1035360"/>
                <a:gd name="textAreaBottom" fmla="*/ 1035720 h 103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5400" y="10800"/>
                    <a:pt x="0" y="10800"/>
                  </a:cubicBezTo>
                  <a:cubicBezTo>
                    <a:pt x="54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solidFill>
              <a:srgbClr val="99ccff"/>
            </a:solidFill>
            <a:ln w="2556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766800" y="907920"/>
            <a:ext cx="26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5</a:t>
            </a:r>
            <a:r>
              <a:rPr b="0" lang="zh-CN" sz="3200" spc="-1" strike="noStrike">
                <a:solidFill>
                  <a:srgbClr val="f8081f"/>
                </a:solidFill>
                <a:latin typeface="黑体"/>
                <a:ea typeface="黑体"/>
              </a:rPr>
              <a:t>．重点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1579680" y="1693800"/>
            <a:ext cx="314604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）阻力对物体运动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7"/>
          <p:cNvGrpSpPr/>
          <p:nvPr/>
        </p:nvGrpSpPr>
        <p:grpSpPr>
          <a:xfrm>
            <a:off x="703440" y="2665440"/>
            <a:ext cx="7664400" cy="3408120"/>
            <a:chOff x="703440" y="2665440"/>
            <a:chExt cx="7664400" cy="3408120"/>
          </a:xfrm>
        </p:grpSpPr>
        <p:pic>
          <p:nvPicPr>
            <p:cNvPr id="116" name="Picture 2" descr=""/>
            <p:cNvPicPr/>
            <p:nvPr/>
          </p:nvPicPr>
          <p:blipFill>
            <a:blip r:embed="rId1"/>
            <a:srcRect l="0" t="0" r="0" b="73991"/>
            <a:stretch/>
          </p:blipFill>
          <p:spPr>
            <a:xfrm>
              <a:off x="749520" y="3505320"/>
              <a:ext cx="5940360" cy="101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2" descr=""/>
            <p:cNvPicPr/>
            <p:nvPr/>
          </p:nvPicPr>
          <p:blipFill>
            <a:blip r:embed="rId2"/>
            <a:srcRect l="0" t="37395" r="0" b="33352"/>
            <a:stretch/>
          </p:blipFill>
          <p:spPr>
            <a:xfrm>
              <a:off x="703440" y="4540320"/>
              <a:ext cx="598320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16"/>
            <p:cNvSpPr/>
            <p:nvPr/>
          </p:nvSpPr>
          <p:spPr>
            <a:xfrm>
              <a:off x="6688080" y="3709800"/>
              <a:ext cx="1679760" cy="520560"/>
            </a:xfrm>
            <a:prstGeom prst="pie">
              <a:avLst/>
            </a:prstGeom>
            <a:solidFill>
              <a:srgbClr val="497dbb"/>
            </a:solidFill>
            <a:ln w="25560">
              <a:solidFill>
                <a:srgbClr val="445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棉布表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"/>
            <p:cNvSpPr/>
            <p:nvPr/>
          </p:nvSpPr>
          <p:spPr>
            <a:xfrm>
              <a:off x="6688080" y="4970520"/>
              <a:ext cx="1679760" cy="520560"/>
            </a:xfrm>
            <a:prstGeom prst="pie">
              <a:avLst/>
            </a:prstGeom>
            <a:solidFill>
              <a:srgbClr val="497dbb"/>
            </a:solidFill>
            <a:ln w="25560">
              <a:solidFill>
                <a:srgbClr val="445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木板表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8"/>
            <p:cNvSpPr/>
            <p:nvPr/>
          </p:nvSpPr>
          <p:spPr>
            <a:xfrm>
              <a:off x="2374200" y="5553000"/>
              <a:ext cx="1887480" cy="520560"/>
            </a:xfrm>
            <a:prstGeom prst="rect">
              <a:avLst/>
            </a:prstGeom>
            <a:solidFill>
              <a:srgbClr val="497dbb"/>
            </a:solidFill>
            <a:ln w="25560">
              <a:solidFill>
                <a:srgbClr val="445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  <a:ea typeface="黑体"/>
                </a:rPr>
                <a:t>比较小车滑行距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792360" y="2665440"/>
              <a:ext cx="7380000" cy="520560"/>
            </a:xfrm>
            <a:prstGeom prst="rect">
              <a:avLst/>
            </a:prstGeom>
            <a:solidFill>
              <a:srgbClr val="497dbb"/>
            </a:solidFill>
            <a:ln w="28440">
              <a:solidFill>
                <a:srgbClr val="445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同一小车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在同一斜面的同一高度</a:t>
              </a: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从静止下滑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31640" y="3564000"/>
            <a:ext cx="8236080" cy="141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上图是研究二力平衡条件的实验装置图。把小车放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_________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上向挂在小车两端的小盘里加砝码，两边砝码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　　　　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时，小车静止；把小车横向移动，使两边拉力方向不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 　　　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，放开手后，观察到木块会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；把小车原地转动一定角度，使两边的拉力方向相反但不在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，放开手后，发现小车转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792000" y="403560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081f"/>
                </a:solidFill>
                <a:latin typeface="Arial"/>
                <a:ea typeface="楷体"/>
              </a:rPr>
              <a:t>水平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1129680" y="4446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081f"/>
                </a:solidFill>
                <a:latin typeface="Arial"/>
                <a:ea typeface="楷体"/>
              </a:rPr>
              <a:t>质量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936440" y="490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081f"/>
                </a:solidFill>
                <a:latin typeface="Arial"/>
                <a:ea typeface="楷体"/>
              </a:rPr>
              <a:t>相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6857640" y="4894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081f"/>
                </a:solidFill>
                <a:latin typeface="Arial"/>
                <a:ea typeface="楷体"/>
              </a:rPr>
              <a:t>运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1766160" y="5759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081f"/>
                </a:solidFill>
                <a:latin typeface="Arial"/>
                <a:ea typeface="楷体"/>
              </a:rPr>
              <a:t>一条直线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395280" y="836640"/>
            <a:ext cx="382572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力平衡的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"/>
          <p:cNvPicPr/>
          <p:nvPr/>
        </p:nvPicPr>
        <p:blipFill>
          <a:blip r:embed="rId1"/>
          <a:stretch/>
        </p:blipFill>
        <p:spPr>
          <a:xfrm>
            <a:off x="878040" y="1562040"/>
            <a:ext cx="3504960" cy="187632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19"/>
          <p:cNvGrpSpPr/>
          <p:nvPr/>
        </p:nvGrpSpPr>
        <p:grpSpPr>
          <a:xfrm>
            <a:off x="5389560" y="1959120"/>
            <a:ext cx="3151080" cy="1083960"/>
            <a:chOff x="5389560" y="1959120"/>
            <a:chExt cx="3151080" cy="1083960"/>
          </a:xfrm>
        </p:grpSpPr>
        <p:pic>
          <p:nvPicPr>
            <p:cNvPr id="131" name="Picture 13" descr=""/>
            <p:cNvPicPr/>
            <p:nvPr/>
          </p:nvPicPr>
          <p:blipFill>
            <a:blip r:embed="rId2"/>
            <a:stretch/>
          </p:blipFill>
          <p:spPr>
            <a:xfrm>
              <a:off x="5389560" y="1959120"/>
              <a:ext cx="3151080" cy="10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Oval 14"/>
            <p:cNvSpPr/>
            <p:nvPr/>
          </p:nvSpPr>
          <p:spPr>
            <a:xfrm>
              <a:off x="6881760" y="2425680"/>
              <a:ext cx="90720" cy="90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6964560" y="2459160"/>
              <a:ext cx="81108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 flipH="1">
              <a:off x="6139080" y="2459160"/>
              <a:ext cx="7682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7"/>
            <p:cNvSpPr/>
            <p:nvPr/>
          </p:nvSpPr>
          <p:spPr>
            <a:xfrm>
              <a:off x="5749920" y="2143080"/>
              <a:ext cx="58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F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8"/>
            <p:cNvSpPr/>
            <p:nvPr/>
          </p:nvSpPr>
          <p:spPr>
            <a:xfrm>
              <a:off x="7685280" y="2168640"/>
              <a:ext cx="58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F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78000" y="2935440"/>
          <a:ext cx="8424720" cy="3151080"/>
        </p:xfrm>
        <a:graphic>
          <a:graphicData uri="http://schemas.openxmlformats.org/drawingml/2006/table">
            <a:tbl>
              <a:tblPr/>
              <a:tblGrid>
                <a:gridCol w="1957320"/>
                <a:gridCol w="2867040"/>
                <a:gridCol w="3600360"/>
              </a:tblGrid>
              <a:tr h="636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黑体"/>
                        </a:rPr>
                        <a:t>相互作用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黑体"/>
                        </a:rPr>
                        <a:t>平衡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黑体"/>
                        </a:rPr>
                        <a:t>受力物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 w="9360">
                      <a:solidFill>
                        <a:srgbClr val="003399"/>
                      </a:solidFill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 w="9360">
                      <a:solidFill>
                        <a:srgbClr val="003399"/>
                      </a:solidFill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9360">
                      <a:solidFill>
                        <a:srgbClr val="003399"/>
                      </a:solidFill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393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黑体"/>
                        </a:rPr>
                        <a:t>力的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 w="93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 w="93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93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28"/>
          <p:cNvSpPr/>
          <p:nvPr/>
        </p:nvSpPr>
        <p:spPr>
          <a:xfrm>
            <a:off x="2411280" y="3759120"/>
            <a:ext cx="26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作用在</a:t>
            </a:r>
            <a:r>
              <a:rPr b="1" lang="zh-CN" sz="2400" spc="-1" strike="noStrike">
                <a:solidFill>
                  <a:srgbClr val="f8081f"/>
                </a:solidFill>
                <a:latin typeface="Arial"/>
                <a:ea typeface="楷体"/>
              </a:rPr>
              <a:t>不同的两个物体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2484360" y="4834080"/>
            <a:ext cx="22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同时产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同时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同时消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1"/>
          <p:cNvSpPr/>
          <p:nvPr/>
        </p:nvSpPr>
        <p:spPr>
          <a:xfrm>
            <a:off x="5518080" y="3933720"/>
            <a:ext cx="30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作用在</a:t>
            </a:r>
            <a:r>
              <a:rPr b="1" lang="zh-CN" sz="2400" spc="-1" strike="noStrike">
                <a:solidFill>
                  <a:srgbClr val="f8081f"/>
                </a:solidFill>
                <a:latin typeface="Arial"/>
                <a:ea typeface="楷体"/>
              </a:rPr>
              <a:t>同一物体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5383080" y="476244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一个力变化，另一个力不一定变化，可能会变为非平衡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7"/>
          <p:cNvSpPr/>
          <p:nvPr/>
        </p:nvSpPr>
        <p:spPr>
          <a:xfrm>
            <a:off x="324000" y="836640"/>
            <a:ext cx="5668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6</a:t>
            </a:r>
            <a:r>
              <a:rPr b="0" lang="zh-CN" sz="3200" spc="-1" strike="noStrike">
                <a:solidFill>
                  <a:srgbClr val="f8081f"/>
                </a:solidFill>
                <a:latin typeface="Arial"/>
                <a:ea typeface="黑体"/>
              </a:rPr>
              <a:t>．相互作用力与平衡力的区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75"/>
          <p:cNvGrpSpPr/>
          <p:nvPr/>
        </p:nvGrpSpPr>
        <p:grpSpPr>
          <a:xfrm>
            <a:off x="1376280" y="1674720"/>
            <a:ext cx="2025720" cy="811080"/>
            <a:chOff x="1376280" y="1674720"/>
            <a:chExt cx="2025720" cy="811080"/>
          </a:xfrm>
        </p:grpSpPr>
        <p:sp>
          <p:nvSpPr>
            <p:cNvPr id="144" name="Rectangle 64"/>
            <p:cNvSpPr/>
            <p:nvPr/>
          </p:nvSpPr>
          <p:spPr>
            <a:xfrm>
              <a:off x="1376280" y="2304720"/>
              <a:ext cx="2025720" cy="181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65"/>
            <p:cNvSpPr/>
            <p:nvPr/>
          </p:nvSpPr>
          <p:spPr>
            <a:xfrm>
              <a:off x="2050920" y="1674720"/>
              <a:ext cx="630360" cy="630000"/>
            </a:xfrm>
            <a:prstGeom prst="rect">
              <a:avLst/>
            </a:prstGeom>
            <a:solidFill>
              <a:srgbClr val="8de5e3"/>
            </a:solidFill>
            <a:ln w="19080">
              <a:solidFill>
                <a:srgbClr val="445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Line 67"/>
          <p:cNvSpPr/>
          <p:nvPr/>
        </p:nvSpPr>
        <p:spPr>
          <a:xfrm>
            <a:off x="2367000" y="2349360"/>
            <a:ext cx="0" cy="541440"/>
          </a:xfrm>
          <a:prstGeom prst="line">
            <a:avLst/>
          </a:prstGeom>
          <a:ln w="28440">
            <a:solidFill>
              <a:srgbClr val="00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72"/>
          <p:cNvGrpSpPr/>
          <p:nvPr/>
        </p:nvGrpSpPr>
        <p:grpSpPr>
          <a:xfrm>
            <a:off x="5516640" y="1494000"/>
            <a:ext cx="2025720" cy="1082520"/>
            <a:chOff x="5516640" y="1494000"/>
            <a:chExt cx="2025720" cy="1082520"/>
          </a:xfrm>
        </p:grpSpPr>
        <p:sp>
          <p:nvSpPr>
            <p:cNvPr id="148" name="Rectangle 68"/>
            <p:cNvSpPr/>
            <p:nvPr/>
          </p:nvSpPr>
          <p:spPr>
            <a:xfrm>
              <a:off x="5516640" y="2349720"/>
              <a:ext cx="2025720" cy="180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9"/>
            <p:cNvSpPr/>
            <p:nvPr/>
          </p:nvSpPr>
          <p:spPr>
            <a:xfrm>
              <a:off x="6191280" y="1719360"/>
              <a:ext cx="630360" cy="630360"/>
            </a:xfrm>
            <a:prstGeom prst="rect">
              <a:avLst/>
            </a:prstGeom>
            <a:solidFill>
              <a:srgbClr val="8de5e3"/>
            </a:solidFill>
            <a:ln w="19080">
              <a:solidFill>
                <a:srgbClr val="445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70"/>
            <p:cNvSpPr/>
            <p:nvPr/>
          </p:nvSpPr>
          <p:spPr>
            <a:xfrm>
              <a:off x="6507000" y="203544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71"/>
            <p:cNvSpPr/>
            <p:nvPr/>
          </p:nvSpPr>
          <p:spPr>
            <a:xfrm flipV="1">
              <a:off x="6507000" y="149400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Line 66"/>
          <p:cNvSpPr/>
          <p:nvPr/>
        </p:nvSpPr>
        <p:spPr>
          <a:xfrm flipV="1">
            <a:off x="2367000" y="1449360"/>
            <a:ext cx="0" cy="541440"/>
          </a:xfrm>
          <a:prstGeom prst="line">
            <a:avLst/>
          </a:prstGeom>
          <a:ln w="28440">
            <a:solidFill>
              <a:srgbClr val="00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1356480" y="819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081f"/>
                </a:solidFill>
                <a:latin typeface="黑体"/>
                <a:ea typeface="黑体"/>
              </a:rPr>
              <a:t>二、摩擦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2"/>
          <p:cNvGrpSpPr/>
          <p:nvPr/>
        </p:nvGrpSpPr>
        <p:grpSpPr>
          <a:xfrm>
            <a:off x="445680" y="1766880"/>
            <a:ext cx="2840400" cy="2365200"/>
            <a:chOff x="445680" y="1766880"/>
            <a:chExt cx="2840400" cy="2365200"/>
          </a:xfrm>
        </p:grpSpPr>
        <p:sp>
          <p:nvSpPr>
            <p:cNvPr id="155" name="Text Box 2"/>
            <p:cNvSpPr/>
            <p:nvPr/>
          </p:nvSpPr>
          <p:spPr>
            <a:xfrm>
              <a:off x="445680" y="2531880"/>
              <a:ext cx="606960" cy="523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3"/>
            <p:cNvSpPr/>
            <p:nvPr/>
          </p:nvSpPr>
          <p:spPr>
            <a:xfrm>
              <a:off x="1781280" y="2666880"/>
              <a:ext cx="1066680" cy="52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重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4"/>
            <p:cNvSpPr/>
            <p:nvPr/>
          </p:nvSpPr>
          <p:spPr>
            <a:xfrm>
              <a:off x="1781280" y="1766880"/>
              <a:ext cx="1218960" cy="52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弹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26"/>
            <p:cNvGrpSpPr/>
            <p:nvPr/>
          </p:nvGrpSpPr>
          <p:grpSpPr>
            <a:xfrm>
              <a:off x="1106640" y="1992240"/>
              <a:ext cx="674640" cy="1889280"/>
              <a:chOff x="1106640" y="1992240"/>
              <a:chExt cx="674640" cy="1889280"/>
            </a:xfrm>
          </p:grpSpPr>
          <p:sp>
            <p:nvSpPr>
              <p:cNvPr id="159" name="直接连接符 5"/>
              <p:cNvSpPr/>
              <p:nvPr/>
            </p:nvSpPr>
            <p:spPr>
              <a:xfrm>
                <a:off x="1455120" y="2000160"/>
                <a:ext cx="0" cy="952560"/>
              </a:xfrm>
              <a:prstGeom prst="line">
                <a:avLst/>
              </a:prstGeom>
              <a:ln w="381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直接连接符 6"/>
              <p:cNvSpPr/>
              <p:nvPr/>
            </p:nvSpPr>
            <p:spPr>
              <a:xfrm>
                <a:off x="1106640" y="2932200"/>
                <a:ext cx="347400" cy="3240"/>
              </a:xfrm>
              <a:prstGeom prst="line">
                <a:avLst/>
              </a:prstGeom>
              <a:ln w="381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1" name="直接箭头连接符 7"/>
              <p:cNvCxnSpPr/>
              <p:nvPr/>
            </p:nvCxnSpPr>
            <p:spPr>
              <a:xfrm>
                <a:off x="1459800" y="1992240"/>
                <a:ext cx="321840" cy="144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round/>
              </a:ln>
            </p:spPr>
          </p:cxnSp>
          <p:cxnSp>
            <p:nvCxnSpPr>
              <p:cNvPr id="162" name="直接箭头连接符 8"/>
              <p:cNvCxnSpPr/>
              <p:nvPr/>
            </p:nvCxnSpPr>
            <p:spPr>
              <a:xfrm>
                <a:off x="1459800" y="2944440"/>
                <a:ext cx="321840" cy="180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round/>
              </a:ln>
            </p:spPr>
          </p:cxnSp>
          <p:sp>
            <p:nvSpPr>
              <p:cNvPr id="163" name="直接连接符 10"/>
              <p:cNvSpPr/>
              <p:nvPr/>
            </p:nvSpPr>
            <p:spPr>
              <a:xfrm>
                <a:off x="1451880" y="2925000"/>
                <a:ext cx="0" cy="949320"/>
              </a:xfrm>
              <a:prstGeom prst="line">
                <a:avLst/>
              </a:prstGeom>
              <a:ln w="381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4" name="直接箭头连接符 11"/>
              <p:cNvCxnSpPr/>
              <p:nvPr/>
            </p:nvCxnSpPr>
            <p:spPr>
              <a:xfrm>
                <a:off x="1456560" y="3880440"/>
                <a:ext cx="321840" cy="144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round/>
              </a:ln>
            </p:spPr>
          </p:cxnSp>
        </p:grpSp>
        <p:sp>
          <p:nvSpPr>
            <p:cNvPr id="165" name="Text Box 4"/>
            <p:cNvSpPr/>
            <p:nvPr/>
          </p:nvSpPr>
          <p:spPr>
            <a:xfrm>
              <a:off x="1781280" y="3611520"/>
              <a:ext cx="1504800" cy="52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摩擦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1"/>
          <p:cNvGrpSpPr/>
          <p:nvPr/>
        </p:nvGrpSpPr>
        <p:grpSpPr>
          <a:xfrm>
            <a:off x="3311640" y="1413000"/>
            <a:ext cx="5400720" cy="4644720"/>
            <a:chOff x="3311640" y="1413000"/>
            <a:chExt cx="5400720" cy="4644720"/>
          </a:xfrm>
        </p:grpSpPr>
        <p:sp>
          <p:nvSpPr>
            <p:cNvPr id="167" name="矩形 22"/>
            <p:cNvSpPr/>
            <p:nvPr/>
          </p:nvSpPr>
          <p:spPr>
            <a:xfrm>
              <a:off x="4424760" y="1413000"/>
              <a:ext cx="10342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产生条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23"/>
            <p:cNvSpPr/>
            <p:nvPr/>
          </p:nvSpPr>
          <p:spPr>
            <a:xfrm>
              <a:off x="4076640" y="2127600"/>
              <a:ext cx="451800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方向：</a:t>
              </a:r>
              <a:r>
                <a:rPr b="1" lang="zh-CN" sz="2800" spc="-1" strike="noStrike">
                  <a:solidFill>
                    <a:srgbClr val="990000"/>
                  </a:solidFill>
                  <a:latin typeface="楷体"/>
                  <a:ea typeface="楷体"/>
                </a:rPr>
                <a:t>与物体相对运动方向或相对运动的趋势相反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24"/>
            <p:cNvSpPr/>
            <p:nvPr/>
          </p:nvSpPr>
          <p:spPr>
            <a:xfrm>
              <a:off x="4942800" y="3270600"/>
              <a:ext cx="274104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摩擦力产生的位置：</a:t>
              </a:r>
              <a:r>
                <a:rPr b="1" lang="zh-CN" sz="2800" spc="-1" strike="noStrike">
                  <a:solidFill>
                    <a:srgbClr val="990000"/>
                  </a:solidFill>
                  <a:latin typeface="楷体"/>
                  <a:ea typeface="楷体"/>
                </a:rPr>
                <a:t>接触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25"/>
            <p:cNvSpPr/>
            <p:nvPr/>
          </p:nvSpPr>
          <p:spPr>
            <a:xfrm>
              <a:off x="4121280" y="3984840"/>
              <a:ext cx="4591080" cy="947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影响滑动摩擦力大小的因素是</a:t>
              </a:r>
              <a:r>
                <a:rPr b="1" lang="zh-CN" sz="2800" spc="-1" strike="noStrike">
                  <a:solidFill>
                    <a:srgbClr val="990000"/>
                  </a:solidFill>
                  <a:latin typeface="楷体"/>
                  <a:ea typeface="楷体"/>
                </a:rPr>
                <a:t>压力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和</a:t>
              </a:r>
              <a:r>
                <a:rPr b="1" lang="zh-CN" sz="2800" spc="-1" strike="noStrike">
                  <a:solidFill>
                    <a:srgbClr val="990000"/>
                  </a:solidFill>
                  <a:latin typeface="楷体"/>
                  <a:ea typeface="楷体"/>
                </a:rPr>
                <a:t>接触面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粗糙程度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26"/>
            <p:cNvSpPr/>
            <p:nvPr/>
          </p:nvSpPr>
          <p:spPr>
            <a:xfrm>
              <a:off x="4138560" y="5110560"/>
              <a:ext cx="3583080" cy="947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增大有益摩擦的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减小有害摩擦的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29"/>
            <p:cNvGrpSpPr/>
            <p:nvPr/>
          </p:nvGrpSpPr>
          <p:grpSpPr>
            <a:xfrm>
              <a:off x="3311640" y="1700640"/>
              <a:ext cx="810720" cy="3995640"/>
              <a:chOff x="3311640" y="1700640"/>
              <a:chExt cx="810720" cy="3995640"/>
            </a:xfrm>
          </p:grpSpPr>
          <p:grpSp>
            <p:nvGrpSpPr>
              <p:cNvPr id="173" name="Group 28"/>
              <p:cNvGrpSpPr/>
              <p:nvPr/>
            </p:nvGrpSpPr>
            <p:grpSpPr>
              <a:xfrm>
                <a:off x="3659040" y="1700640"/>
                <a:ext cx="463320" cy="3995640"/>
                <a:chOff x="3659040" y="1700640"/>
                <a:chExt cx="463320" cy="3995640"/>
              </a:xfrm>
            </p:grpSpPr>
            <p:sp>
              <p:nvSpPr>
                <p:cNvPr id="174" name="Line 28"/>
                <p:cNvSpPr/>
                <p:nvPr/>
              </p:nvSpPr>
              <p:spPr>
                <a:xfrm>
                  <a:off x="3672000" y="3528000"/>
                  <a:ext cx="36036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Group 24"/>
                <p:cNvGrpSpPr/>
                <p:nvPr/>
              </p:nvGrpSpPr>
              <p:grpSpPr>
                <a:xfrm>
                  <a:off x="3659040" y="1700640"/>
                  <a:ext cx="463320" cy="3995640"/>
                  <a:chOff x="3659040" y="1700640"/>
                  <a:chExt cx="463320" cy="3995640"/>
                </a:xfrm>
              </p:grpSpPr>
              <p:sp>
                <p:nvSpPr>
                  <p:cNvPr id="176" name="Line 27"/>
                  <p:cNvSpPr/>
                  <p:nvPr/>
                </p:nvSpPr>
                <p:spPr>
                  <a:xfrm>
                    <a:off x="3659040" y="1710000"/>
                    <a:ext cx="31320" cy="3985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9"/>
                  <p:cNvSpPr/>
                  <p:nvPr/>
                </p:nvSpPr>
                <p:spPr>
                  <a:xfrm>
                    <a:off x="3680280" y="5696280"/>
                    <a:ext cx="428760" cy="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30"/>
                  <p:cNvSpPr/>
                  <p:nvPr/>
                </p:nvSpPr>
                <p:spPr>
                  <a:xfrm>
                    <a:off x="3659040" y="1700640"/>
                    <a:ext cx="428760" cy="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31"/>
                  <p:cNvSpPr/>
                  <p:nvPr/>
                </p:nvSpPr>
                <p:spPr>
                  <a:xfrm>
                    <a:off x="3659040" y="2595600"/>
                    <a:ext cx="428760" cy="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32"/>
                  <p:cNvSpPr/>
                  <p:nvPr/>
                </p:nvSpPr>
                <p:spPr>
                  <a:xfrm>
                    <a:off x="3693600" y="4460400"/>
                    <a:ext cx="428760" cy="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1" name="Line 28"/>
              <p:cNvSpPr/>
              <p:nvPr/>
            </p:nvSpPr>
            <p:spPr>
              <a:xfrm flipV="1">
                <a:off x="3311640" y="3835440"/>
                <a:ext cx="360360" cy="6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4954680" y="1425600"/>
            <a:ext cx="3776400" cy="1547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83" name="TextBox 2"/>
          <p:cNvSpPr/>
          <p:nvPr/>
        </p:nvSpPr>
        <p:spPr>
          <a:xfrm>
            <a:off x="1381320" y="793800"/>
            <a:ext cx="3644640" cy="5205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081f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8081f"/>
                </a:solidFill>
                <a:latin typeface="宋体"/>
                <a:ea typeface="黑体"/>
              </a:rPr>
              <a:t>．研究影响滑动摩擦力大小的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2823480" y="1658880"/>
            <a:ext cx="1247400" cy="52056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控制变量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702720" y="1604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实验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7"/>
          <p:cNvGrpSpPr/>
          <p:nvPr/>
        </p:nvGrpSpPr>
        <p:grpSpPr>
          <a:xfrm>
            <a:off x="162000" y="5484960"/>
            <a:ext cx="8873640" cy="688680"/>
            <a:chOff x="162000" y="5484960"/>
            <a:chExt cx="8873640" cy="688680"/>
          </a:xfrm>
        </p:grpSpPr>
        <p:pic>
          <p:nvPicPr>
            <p:cNvPr id="187" name="TextBox 9" descr=""/>
            <p:cNvPicPr/>
            <p:nvPr/>
          </p:nvPicPr>
          <p:blipFill>
            <a:blip r:embed="rId2"/>
            <a:stretch/>
          </p:blipFill>
          <p:spPr>
            <a:xfrm>
              <a:off x="162000" y="5484960"/>
              <a:ext cx="877536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387000" y="5576760"/>
              <a:ext cx="864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③</a:t>
              </a: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滑动摩擦力大小与物重、速度、接触面积无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4"/>
          <p:cNvGrpSpPr/>
          <p:nvPr/>
        </p:nvGrpSpPr>
        <p:grpSpPr>
          <a:xfrm>
            <a:off x="341280" y="3279600"/>
            <a:ext cx="8461440" cy="990720"/>
            <a:chOff x="341280" y="3279600"/>
            <a:chExt cx="8461440" cy="990720"/>
          </a:xfrm>
        </p:grpSpPr>
        <p:sp>
          <p:nvSpPr>
            <p:cNvPr id="190" name="AutoShape 11"/>
            <p:cNvSpPr/>
            <p:nvPr/>
          </p:nvSpPr>
          <p:spPr>
            <a:xfrm>
              <a:off x="341280" y="3279600"/>
              <a:ext cx="8461440" cy="990720"/>
            </a:xfrm>
            <a:custGeom>
              <a:avLst/>
              <a:gdLst>
                <a:gd name="textAreaLeft" fmla="*/ 64080 w 8461440"/>
                <a:gd name="textAreaRight" fmla="*/ 8397360 w 846144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184420" h="21600">
                  <a:moveTo>
                    <a:pt x="0" y="0"/>
                  </a:moveTo>
                  <a:lnTo>
                    <a:pt x="184420" y="0"/>
                  </a:lnTo>
                  <a:lnTo>
                    <a:pt x="184420" y="21600"/>
                  </a:lnTo>
                  <a:lnTo>
                    <a:pt x="0" y="21600"/>
                  </a:lnTo>
                  <a:close/>
                </a:path>
                <a:path fill="lightenLess" w="184420" h="21600">
                  <a:moveTo>
                    <a:pt x="0" y="0"/>
                  </a:moveTo>
                  <a:lnTo>
                    <a:pt x="184420" y="0"/>
                  </a:lnTo>
                  <a:lnTo>
                    <a:pt x="183020" y="1400"/>
                  </a:lnTo>
                  <a:lnTo>
                    <a:pt x="1400" y="1400"/>
                  </a:lnTo>
                  <a:close/>
                </a:path>
                <a:path fill="darken" w="184420" h="21600">
                  <a:moveTo>
                    <a:pt x="184420" y="0"/>
                  </a:moveTo>
                  <a:lnTo>
                    <a:pt x="184420" y="21600"/>
                  </a:lnTo>
                  <a:lnTo>
                    <a:pt x="183020" y="20200"/>
                  </a:lnTo>
                  <a:lnTo>
                    <a:pt x="183020" y="1400"/>
                  </a:lnTo>
                  <a:close/>
                </a:path>
                <a:path fill="darkenLess" w="184420" h="21600">
                  <a:moveTo>
                    <a:pt x="18442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83020" y="20200"/>
                  </a:lnTo>
                  <a:close/>
                </a:path>
                <a:path fill="lighten" w="18442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abddff"/>
                </a:gs>
                <a:gs pos="100000">
                  <a:srgbClr val="69c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8"/>
            <p:cNvSpPr/>
            <p:nvPr/>
          </p:nvSpPr>
          <p:spPr>
            <a:xfrm>
              <a:off x="431640" y="3279600"/>
              <a:ext cx="8286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①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滑动摩擦力的大小跟接触面所受的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压力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关，接触面受到的压力越大，滑动摩擦力越大；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5"/>
          <p:cNvGrpSpPr/>
          <p:nvPr/>
        </p:nvGrpSpPr>
        <p:grpSpPr>
          <a:xfrm>
            <a:off x="324000" y="4437000"/>
            <a:ext cx="8505360" cy="1035000"/>
            <a:chOff x="324000" y="4437000"/>
            <a:chExt cx="8505360" cy="1035000"/>
          </a:xfrm>
        </p:grpSpPr>
        <p:sp>
          <p:nvSpPr>
            <p:cNvPr id="193" name="AutoShape 13"/>
            <p:cNvSpPr/>
            <p:nvPr/>
          </p:nvSpPr>
          <p:spPr>
            <a:xfrm>
              <a:off x="368280" y="4437000"/>
              <a:ext cx="8461080" cy="1035000"/>
            </a:xfrm>
            <a:custGeom>
              <a:avLst/>
              <a:gdLst>
                <a:gd name="textAreaLeft" fmla="*/ 66960 w 8461080"/>
                <a:gd name="textAreaRight" fmla="*/ 8394120 w 8461080"/>
                <a:gd name="textAreaTop" fmla="*/ 66960 h 1035000"/>
                <a:gd name="textAreaBottom" fmla="*/ 968040 h 1035000"/>
              </a:gdLst>
              <a:ahLst/>
              <a:rect l="textAreaLeft" t="textAreaTop" r="textAreaRight" b="textAreaBottom"/>
              <a:pathLst>
                <a:path w="176525" h="21600">
                  <a:moveTo>
                    <a:pt x="0" y="0"/>
                  </a:moveTo>
                  <a:lnTo>
                    <a:pt x="176525" y="0"/>
                  </a:lnTo>
                  <a:lnTo>
                    <a:pt x="176525" y="21600"/>
                  </a:lnTo>
                  <a:lnTo>
                    <a:pt x="0" y="21600"/>
                  </a:lnTo>
                  <a:close/>
                </a:path>
                <a:path fill="lightenLess" w="176525" h="21600">
                  <a:moveTo>
                    <a:pt x="0" y="0"/>
                  </a:moveTo>
                  <a:lnTo>
                    <a:pt x="176525" y="0"/>
                  </a:lnTo>
                  <a:lnTo>
                    <a:pt x="175125" y="1400"/>
                  </a:lnTo>
                  <a:lnTo>
                    <a:pt x="1400" y="1400"/>
                  </a:lnTo>
                  <a:close/>
                </a:path>
                <a:path fill="darken" w="176525" h="21600">
                  <a:moveTo>
                    <a:pt x="176525" y="0"/>
                  </a:moveTo>
                  <a:lnTo>
                    <a:pt x="176525" y="21600"/>
                  </a:lnTo>
                  <a:lnTo>
                    <a:pt x="175125" y="20200"/>
                  </a:lnTo>
                  <a:lnTo>
                    <a:pt x="175125" y="1400"/>
                  </a:lnTo>
                  <a:close/>
                </a:path>
                <a:path fill="darkenLess" w="176525" h="21600">
                  <a:moveTo>
                    <a:pt x="17652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75125" y="20200"/>
                  </a:lnTo>
                  <a:close/>
                </a:path>
                <a:path fill="lighten" w="17652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abddff"/>
                </a:gs>
                <a:gs pos="100000">
                  <a:srgbClr val="69c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8"/>
            <p:cNvSpPr/>
            <p:nvPr/>
          </p:nvSpPr>
          <p:spPr>
            <a:xfrm>
              <a:off x="324000" y="4479120"/>
              <a:ext cx="828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②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滑动摩擦力的大小跟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接触面的粗糙程度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关，接触面越粗糙，滑动摩擦力越大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4"/>
          <p:cNvSpPr/>
          <p:nvPr/>
        </p:nvSpPr>
        <p:spPr>
          <a:xfrm>
            <a:off x="1760040" y="2379600"/>
            <a:ext cx="2100960" cy="52056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物体做匀速直线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/>
  <dc:description/>
  <dc:language>en-US</dc:language>
  <cp:lastModifiedBy>Administrator</cp:lastModifiedBy>
  <dcterms:modified xsi:type="dcterms:W3CDTF">2019-01-09T07:46:41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